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c1a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c1a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c1a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c1a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c1a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c1a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c1a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c1a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c1a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c1a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2666880"/>
            <a:ext cx="88390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304920" y="527040"/>
            <a:ext cx="838080" cy="7509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153280" y="653724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80745"/>
                </a:solidFill>
                <a:latin typeface="Arial"/>
              </a:rPr>
              <a:t>Slide </a:t>
            </a:r>
            <a:fld id="{5F5FB5CE-A82C-454F-A555-F13F017950F8}" type="slidenum">
              <a:rPr b="0" lang="en-GB" sz="1800" spc="-1" strike="noStrike">
                <a:solidFill>
                  <a:srgbClr val="38074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219320" y="762120"/>
            <a:ext cx="6553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c1a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ec1a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252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9080" indent="-4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4120" indent="4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4120" indent="4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4120" indent="4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slide" Target="slide28.xml"/><Relationship Id="rId4" Type="http://schemas.openxmlformats.org/officeDocument/2006/relationships/slide" Target="slide29.xml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d0975"/>
              </a:gs>
              <a:gs pos="100000">
                <a:srgbClr val="6019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0360" y="681120"/>
            <a:ext cx="954000" cy="820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03360" y="1482840"/>
            <a:ext cx="7640640" cy="0"/>
          </a:xfrm>
          <a:prstGeom prst="line">
            <a:avLst/>
          </a:prstGeom>
          <a:ln w="38160">
            <a:solidFill>
              <a:srgbClr val="5a5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92200" y="363600"/>
            <a:ext cx="7651800" cy="6494400"/>
          </a:xfrm>
          <a:prstGeom prst="line">
            <a:avLst/>
          </a:prstGeom>
          <a:ln w="38160">
            <a:solidFill>
              <a:srgbClr val="5a5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067440" y="1292400"/>
            <a:ext cx="2559960" cy="2309040"/>
            <a:chOff x="6067440" y="1292400"/>
            <a:chExt cx="2559960" cy="2309040"/>
          </a:xfrm>
        </p:grpSpPr>
        <p:grpSp>
          <p:nvGrpSpPr>
            <p:cNvPr id="47" name=""/>
            <p:cNvGrpSpPr/>
            <p:nvPr/>
          </p:nvGrpSpPr>
          <p:grpSpPr>
            <a:xfrm>
              <a:off x="6067440" y="1292400"/>
              <a:ext cx="2559960" cy="2309040"/>
              <a:chOff x="6067440" y="1292400"/>
              <a:chExt cx="2559960" cy="2309040"/>
            </a:xfrm>
          </p:grpSpPr>
          <p:sp>
            <p:nvSpPr>
              <p:cNvPr id="48" name=""/>
              <p:cNvSpPr/>
              <p:nvPr/>
            </p:nvSpPr>
            <p:spPr>
              <a:xfrm>
                <a:off x="6734160" y="1999440"/>
                <a:ext cx="1516680" cy="1602000"/>
              </a:xfrm>
              <a:prstGeom prst="ellipse">
                <a:avLst/>
              </a:prstGeom>
              <a:solidFill>
                <a:srgbClr val="808080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" name="" descr=""/>
              <p:cNvPicPr/>
              <p:nvPr/>
            </p:nvPicPr>
            <p:blipFill>
              <a:blip r:embed="rId2">
                <a:lum bright="-10000"/>
              </a:blip>
              <a:srcRect l="1546" t="0" r="0" b="0"/>
              <a:stretch/>
            </p:blipFill>
            <p:spPr>
              <a:xfrm>
                <a:off x="6067440" y="1292400"/>
                <a:ext cx="2559960" cy="223740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</p:pic>
        </p:grpSp>
        <p:sp>
          <p:nvSpPr>
            <p:cNvPr id="50" name=""/>
            <p:cNvSpPr/>
            <p:nvPr/>
          </p:nvSpPr>
          <p:spPr>
            <a:xfrm>
              <a:off x="7635960" y="1983960"/>
              <a:ext cx="83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I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61800" y="5332320"/>
            <a:ext cx="878220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НСТИТУТ ЮНЕС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ПО ИНФОРМАЦИОННЫМ ТЕХНОЛОГИЯМ В ОБРАЗОВАН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1828800"/>
            <a:ext cx="914400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51179"/>
                </a:solidFill>
                <a:latin typeface="Arial"/>
              </a:rPr>
              <a:t>Сквозные те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4005360"/>
            <a:ext cx="914400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51179"/>
                </a:solidFill>
                <a:latin typeface="Arial"/>
              </a:rPr>
              <a:t>Проекты, относящиеся к сквозным тема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3840" y="2362320"/>
            <a:ext cx="3817800" cy="14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орьба с нищетой, особенно с ее крайними проявл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88000" y="2362320"/>
            <a:ext cx="41274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клад ИКТ в развитие образования, науки и культуры и создание общества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42920" y="189000"/>
            <a:ext cx="74152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c1a8"/>
                </a:solidFill>
                <a:latin typeface="Arial"/>
              </a:rPr>
              <a:t>Программа и бюджет ЮНЕСКО на 2002 – 2003 гг.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30 С/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4653000"/>
            <a:ext cx="14414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43640" y="4653000"/>
            <a:ext cx="10080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51280" y="4508640"/>
            <a:ext cx="4392720" cy="2016000"/>
          </a:xfrm>
          <a:prstGeom prst="rect">
            <a:avLst/>
          </a:prstGeom>
          <a:solidFill>
            <a:srgbClr val="ffd4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Создание для лиц, принимающих решения, базы знаний в области открытого дистанционного обучения на уровне высше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5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5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9640" y="1700280"/>
            <a:ext cx="8353440" cy="42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лиз выступлений представителей государств-членов на 30-ой сессии Генеральной Конференции ЮНЕСК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1999 г.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8908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явлена потребность в развити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8908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ена необходимост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я базы знаний по Д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9448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c1a8"/>
                </a:solidFill>
                <a:latin typeface="Arial"/>
              </a:rPr>
              <a:t>История проекта</a:t>
            </a:r>
            <a:endParaRPr b="0" lang="en-US" sz="4400" spc="-1" strike="noStrike">
              <a:solidFill>
                <a:srgbClr val="fec1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0920" y="1989000"/>
            <a:ext cx="849780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ределение регионов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иболее нуждающихс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создании баз данных по Д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фрик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зи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Н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9448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c1a8"/>
                </a:solidFill>
                <a:latin typeface="Arial"/>
              </a:rPr>
              <a:t>История проекта</a:t>
            </a:r>
            <a:endParaRPr b="0" lang="en-US" sz="4400" spc="-1" strike="noStrike">
              <a:solidFill>
                <a:srgbClr val="fec1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9640" y="1628640"/>
            <a:ext cx="813600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001 г.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нализ информационных потребностей лиц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нимающих решения в обла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крытого дистанционного обучения в сфере высшего обра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сполнители в СНГ:</a:t>
            </a:r>
            <a:br>
              <a:rPr sz="36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ИТО, Киргизия, Россия, Украина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9448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c1a8"/>
                </a:solidFill>
                <a:latin typeface="Arial"/>
              </a:rPr>
              <a:t>История проекта</a:t>
            </a:r>
            <a:endParaRPr b="0" lang="en-US" sz="4400" spc="-1" strike="noStrike">
              <a:solidFill>
                <a:srgbClr val="fec1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39640" y="1488960"/>
            <a:ext cx="835344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Принятие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«Создание для лиц, принимающих решени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базы знаний в области открытого дистанционного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а уровне высшего образова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на 31-ой сессии Генеральной Конференции ЮНЕСКО (2001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Бюджет: 275 000 долл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9448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c1a8"/>
                </a:solidFill>
                <a:latin typeface="Arial"/>
              </a:rPr>
              <a:t>История проекта</a:t>
            </a:r>
            <a:endParaRPr b="0" lang="en-US" sz="4400" spc="-1" strike="noStrike">
              <a:solidFill>
                <a:srgbClr val="fec1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39640" y="1268280"/>
            <a:ext cx="813600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дание динамичной базы знаний по возможностям и передовому опыту в области открытого дистанционного обучения (ОДО) (по таким вопросам, как содержание, доступность, механизмы обеспечения качества и использо-вание технологий ОДО); создание потенциала на основе региональных сетей для лиц, принимающих решения и отвечающих за разработку политики, в целях содействия доступу к качественным инструментам ОДО с учетом региональных, социальных и экономи-ческих потребносте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30 С/5, п. 01423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9448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c1a8"/>
                </a:solidFill>
                <a:latin typeface="Arial"/>
              </a:rPr>
              <a:t>Цель проекта</a:t>
            </a:r>
            <a:endParaRPr b="0" lang="en-US" sz="4400" spc="-1" strike="noStrike">
              <a:solidFill>
                <a:srgbClr val="fec1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484360" y="1341360"/>
            <a:ext cx="42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оз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9448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c1a8"/>
                </a:solidFill>
                <a:latin typeface="Arial"/>
              </a:rPr>
              <a:t>Цель проекта</a:t>
            </a:r>
            <a:endParaRPr b="0" lang="en-US" sz="4400" spc="-1" strike="noStrike">
              <a:solidFill>
                <a:srgbClr val="fec1a8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28720" y="2276640"/>
            <a:ext cx="410364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БАЗЫ ЗНАНИЙ</a:t>
            </a:r>
            <a:br>
              <a:rPr sz="25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ПО ВОЗМОЖНОСТЯМ</a:t>
            </a:r>
            <a:br>
              <a:rPr sz="25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И ПЕРЕДОВОМУ ОПЫТУ</a:t>
            </a:r>
            <a:br>
              <a:rPr sz="25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В ОБЛАСТИ ОДО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ccffff"/>
                </a:solidFill>
                <a:latin typeface="Arial"/>
              </a:rPr>
              <a:t>содержание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ccffff"/>
                </a:solidFill>
                <a:latin typeface="Arial"/>
              </a:rPr>
              <a:t>доступность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ccffff"/>
                </a:solidFill>
                <a:latin typeface="Arial"/>
              </a:rPr>
              <a:t>механизмы</a:t>
            </a:r>
            <a:br>
              <a:rPr sz="2700"/>
            </a:br>
            <a:r>
              <a:rPr b="0" lang="en-US" sz="2700" spc="-1" strike="noStrike">
                <a:solidFill>
                  <a:srgbClr val="ccffff"/>
                </a:solidFill>
                <a:latin typeface="Arial"/>
              </a:rPr>
              <a:t>  обеспечения качества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ccffff"/>
                </a:solidFill>
                <a:latin typeface="Arial"/>
              </a:rPr>
              <a:t>использование</a:t>
            </a:r>
            <a:br>
              <a:rPr sz="2700"/>
            </a:br>
            <a:r>
              <a:rPr b="0" lang="en-US" sz="2700" spc="-1" strike="noStrike">
                <a:solidFill>
                  <a:srgbClr val="ccffff"/>
                </a:solidFill>
                <a:latin typeface="Arial"/>
              </a:rPr>
              <a:t>  технологий ОДО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67280" y="2276640"/>
            <a:ext cx="316872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ПОТЕНЦИАЛА</a:t>
            </a:r>
            <a:br>
              <a:rPr sz="25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НА ОСНОВЕ РЕГИОНАЛЬНЫХ СЕТЕ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для лиц, принимающих решения и отвечающих за разработку поли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11280" y="1341360"/>
            <a:ext cx="799308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здание постоянной системы обновле-ния и пополнения информац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тноси-тельно возможностей ОДО на уровне высшего образования в развивающихся странах и странах переходного периода (распространя-емой в электронной и печатной форме, а также на основе использования возможностей развития межрегиональных сетей для разработчиков политики по таким вопросам, как оценка качества и доступность различных форм ОДО в свете региональных приори-тетов)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30 С/5, п. 01423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9448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c1a8"/>
                </a:solidFill>
                <a:latin typeface="Arial"/>
              </a:rPr>
              <a:t>Ожидаемые результаты</a:t>
            </a:r>
            <a:endParaRPr b="0" lang="en-US" sz="4400" spc="-1" strike="noStrike">
              <a:solidFill>
                <a:srgbClr val="fec1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9448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c1a8"/>
                </a:solidFill>
                <a:latin typeface="Arial"/>
              </a:rPr>
              <a:t>Ожидаемые результаты</a:t>
            </a:r>
            <a:endParaRPr b="0" lang="en-US" sz="4400" spc="-1" strike="noStrike">
              <a:solidFill>
                <a:srgbClr val="fec1a8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1700280"/>
            <a:ext cx="8569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94000"/>
          </a:bodyPr>
          <a:p>
            <a:pPr marL="572760" indent="-57276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здание базы знани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в области ОДО на уровне высшего образования для лиц, принимающих решения, в развивающихся странах и странах переходного пери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витие потенциал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в целевых регионах на основе ресурсов созданной базы данных, включающей политические докумен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явление передовой практики и перспективных потребносте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для обеспечения доступа и обмена информацией, необходимой для принятия политических решений в области ОДО на уровне высшего образования в целевых регионах, в том числе посредством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ценки и мониторинга развития базы данных по О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9448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c1a8"/>
                </a:solidFill>
                <a:latin typeface="Arial"/>
              </a:rPr>
              <a:t>Исполнители проекта</a:t>
            </a:r>
            <a:endParaRPr b="0" lang="en-US" sz="4400" spc="-1" strike="noStrike">
              <a:solidFill>
                <a:srgbClr val="fec1a8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87280" y="1670040"/>
            <a:ext cx="72723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marL="609480" indent="-609480">
              <a:spcBef>
                <a:spcPts val="28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ектор образования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ЮНЕС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8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ектор коммуникации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информации ЮНЕС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8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ституты ЮНЕСКО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образованию (ИИТО, МИП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8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интересованные стр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1415880"/>
            <a:ext cx="842508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Содействовать сбору, анализу, распространению и обмену информацией об использовании ИКТ  в образов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Оказывать по просьбе  государств – членов ЮНЕСКО консультативные услуги  и содействовать проведению  исследований, посвящённых применению ИКТ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 образов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Предоставлять техническую помощь для разработки учебных программ и курсов с использованием  ИКТ в образовании на основе результатов научных исследо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Проводить подготовку и переподготовку,  включая открытое и дистанционное обучение, работников образования  в области применения ИКТ в образовании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 первую очередь из развивающихся стран с переходной экономикой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Содействовать разработке  региональных программ ЮНЕСКО по применению ИКТ в образовании во всех государствах – членах ЮНЕСКО и, в частности, входящих в СН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9448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c1a8"/>
                </a:solidFill>
                <a:latin typeface="Arial"/>
              </a:rPr>
              <a:t>Функции ИИТО</a:t>
            </a:r>
            <a:endParaRPr b="0" lang="en-US" sz="4400" spc="-1" strike="noStrike">
              <a:solidFill>
                <a:srgbClr val="fec1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404640"/>
            <a:ext cx="3780000" cy="649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251179"/>
                </a:solidFill>
                <a:latin typeface="Arial"/>
              </a:rPr>
              <a:t>Виды и этапы деятельности</a:t>
            </a:r>
            <a:br>
              <a:rPr sz="1900"/>
            </a:br>
            <a:r>
              <a:rPr b="0" i="1" lang="en-US" sz="1900" spc="-1" strike="noStrike">
                <a:solidFill>
                  <a:srgbClr val="251179"/>
                </a:solidFill>
                <a:latin typeface="Arial"/>
              </a:rPr>
              <a:t>в ходе выполнения проек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80000" y="404640"/>
            <a:ext cx="5364000" cy="649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251179"/>
                </a:solidFill>
                <a:latin typeface="Arial"/>
              </a:rPr>
              <a:t>Ожидаемые результат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45080" y="1195560"/>
            <a:ext cx="50990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дание базы знан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 области ОДО на уровне высшего образования для лиц, принимающих решения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развивающихся странах и странах переходного периода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123920"/>
            <a:ext cx="3059280" cy="1728720"/>
          </a:xfrm>
          <a:prstGeom prst="rect">
            <a:avLst/>
          </a:prstGeom>
          <a:solidFill>
            <a:srgbClr val="7174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. Создание базы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зн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76360" y="-14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ff"/>
                </a:solidFill>
                <a:latin typeface="Arial"/>
              </a:rPr>
              <a:t>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59280" y="1123920"/>
            <a:ext cx="576000" cy="1728720"/>
          </a:xfrm>
          <a:prstGeom prst="rightArrow">
            <a:avLst>
              <a:gd name="adj1" fmla="val 100000"/>
              <a:gd name="adj2" fmla="val 100000"/>
            </a:avLst>
          </a:prstGeom>
          <a:gradFill rotWithShape="0">
            <a:gsLst>
              <a:gs pos="0">
                <a:srgbClr val="a4a6ed"/>
              </a:gs>
              <a:gs pos="100000">
                <a:srgbClr val="7174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08360" y="2997360"/>
            <a:ext cx="5292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азвитие потенциал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в целевых регионах на основе ресурсов созданной базы данных, включающей политические докум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924280"/>
            <a:ext cx="3059280" cy="1728720"/>
          </a:xfrm>
          <a:prstGeom prst="rect">
            <a:avLst/>
          </a:prstGeom>
          <a:solidFill>
            <a:srgbClr val="7174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. Развитие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 потенциала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 для принятия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 решений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 в области ОД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59280" y="2924280"/>
            <a:ext cx="576000" cy="1728720"/>
          </a:xfrm>
          <a:prstGeom prst="rightArrow">
            <a:avLst>
              <a:gd name="adj1" fmla="val 100000"/>
              <a:gd name="adj2" fmla="val 100000"/>
            </a:avLst>
          </a:prstGeom>
          <a:gradFill rotWithShape="0">
            <a:gsLst>
              <a:gs pos="0">
                <a:srgbClr val="a4a6ed"/>
              </a:gs>
              <a:gs pos="100000">
                <a:srgbClr val="7174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08360" y="4437000"/>
            <a:ext cx="54356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ыявление передовой практики и перспек-тивных потребностей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для обеспечения доступа и обмена информацией, необходи-мой для принятия политических решений в области ОДО на уровне высшего образова-ния в целевых регионах, в том числе посред-ством оценки и мониторинга развития базы данных по ОДО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4724280"/>
            <a:ext cx="3059280" cy="1729080"/>
          </a:xfrm>
          <a:prstGeom prst="rect">
            <a:avLst/>
          </a:prstGeom>
          <a:solidFill>
            <a:srgbClr val="7174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. Оценка развития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  прое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4724280"/>
            <a:ext cx="576000" cy="1729080"/>
          </a:xfrm>
          <a:prstGeom prst="rightArrow">
            <a:avLst>
              <a:gd name="adj1" fmla="val 100000"/>
              <a:gd name="adj2" fmla="val 100000"/>
            </a:avLst>
          </a:prstGeom>
          <a:gradFill rotWithShape="0">
            <a:gsLst>
              <a:gs pos="0">
                <a:srgbClr val="a4a6ed"/>
              </a:gs>
              <a:gs pos="100000">
                <a:srgbClr val="7174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153280" y="653724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80745"/>
                </a:solidFill>
                <a:latin typeface="Arial"/>
              </a:rPr>
              <a:t>Slide </a:t>
            </a:r>
            <a:fld id="{2C440E5D-F9D3-43D7-AEA9-D5BC38F05A8B}" type="slidenum">
              <a:rPr b="0" lang="en-GB" sz="1800" spc="-1" strike="noStrike">
                <a:solidFill>
                  <a:srgbClr val="38074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125360"/>
            <a:ext cx="3059280" cy="172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 Создание базы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зн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3500"/>
                            </p:stCondLst>
                            <p:childTnLst>
                              <p:par>
                                <p:cTn id="452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0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500"/>
                            </p:stCondLst>
                            <p:childTnLst>
                              <p:par>
                                <p:cTn id="46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404640"/>
            <a:ext cx="9144000" cy="432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51179"/>
                </a:solidFill>
                <a:latin typeface="Arial"/>
              </a:rPr>
              <a:t>СОЗДАНИЕ БАЗЫ ЗН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308720" y="-14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ff"/>
                </a:solidFill>
                <a:latin typeface="Arial"/>
              </a:rPr>
              <a:t>ACTION</a:t>
            </a:r>
            <a:r>
              <a:rPr b="1" i="1" lang="ru-RU" sz="2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99cc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153280" y="653724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80745"/>
                </a:solidFill>
                <a:latin typeface="Arial"/>
              </a:rPr>
              <a:t>Slide </a:t>
            </a:r>
            <a:fld id="{2EB505D4-CDC4-49C2-A606-BD4D89C874FA}" type="slidenum">
              <a:rPr b="0" lang="en-GB" sz="1800" spc="-1" strike="noStrike">
                <a:solidFill>
                  <a:srgbClr val="38074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36360" y="-27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ccff"/>
                </a:solidFill>
                <a:latin typeface="Arial"/>
              </a:rPr>
              <a:t>Деятельность </a:t>
            </a:r>
            <a:r>
              <a:rPr b="1" i="1" lang="en-US" sz="2400" spc="-1" strike="noStrike">
                <a:solidFill>
                  <a:srgbClr val="99cc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1280" y="1844640"/>
            <a:ext cx="8137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marL="609480" indent="-609480">
              <a:lnSpc>
                <a:spcPct val="95000"/>
              </a:lnSpc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базы знаний в регион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Афр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базы знаний в регион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А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Создание базы знаний в регионе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III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 – страны СНГ и Балт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Поддержка развития базы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00000" y="11318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ероприятия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CTIVITI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500"/>
                            </p:stCondLst>
                            <p:childTnLst>
                              <p:par>
                                <p:cTn id="4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404640"/>
            <a:ext cx="3780000" cy="649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251179"/>
                </a:solidFill>
                <a:latin typeface="Arial"/>
              </a:rPr>
              <a:t>Виды и этапы деятельности</a:t>
            </a:r>
            <a:br>
              <a:rPr sz="1900"/>
            </a:br>
            <a:r>
              <a:rPr b="0" i="1" lang="en-US" sz="1900" spc="-1" strike="noStrike">
                <a:solidFill>
                  <a:srgbClr val="251179"/>
                </a:solidFill>
                <a:latin typeface="Arial"/>
              </a:rPr>
              <a:t>в ходе выполнения проек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80000" y="404640"/>
            <a:ext cx="5364000" cy="649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251179"/>
                </a:solidFill>
                <a:latin typeface="Arial"/>
              </a:rPr>
              <a:t>Ожидаемые результат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45080" y="1195560"/>
            <a:ext cx="50990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дание базы знан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 области ОДО на уровне высшего образования для лиц, принимающих решения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развивающихся странах и странах переходного периода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123920"/>
            <a:ext cx="3059280" cy="1728720"/>
          </a:xfrm>
          <a:prstGeom prst="rect">
            <a:avLst/>
          </a:prstGeom>
          <a:solidFill>
            <a:srgbClr val="7174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. Создание базы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зн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76360" y="-14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ff"/>
                </a:solidFill>
                <a:latin typeface="Arial"/>
              </a:rPr>
              <a:t>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59280" y="1123920"/>
            <a:ext cx="576000" cy="1728720"/>
          </a:xfrm>
          <a:prstGeom prst="rightArrow">
            <a:avLst>
              <a:gd name="adj1" fmla="val 100000"/>
              <a:gd name="adj2" fmla="val 100000"/>
            </a:avLst>
          </a:prstGeom>
          <a:gradFill rotWithShape="0">
            <a:gsLst>
              <a:gs pos="0">
                <a:srgbClr val="a4a6ed"/>
              </a:gs>
              <a:gs pos="100000">
                <a:srgbClr val="7174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08360" y="2997360"/>
            <a:ext cx="5292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азвитие потенциал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в целевых регионах на основе ресурсов созданной базы данных, включающей политические докум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924280"/>
            <a:ext cx="3059280" cy="172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 Развитие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потенциала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для принятия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решений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в области ОД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59280" y="2924280"/>
            <a:ext cx="576000" cy="1728720"/>
          </a:xfrm>
          <a:prstGeom prst="rightArrow">
            <a:avLst>
              <a:gd name="adj1" fmla="val 100000"/>
              <a:gd name="adj2" fmla="val 100000"/>
            </a:avLst>
          </a:prstGeom>
          <a:gradFill rotWithShape="0">
            <a:gsLst>
              <a:gs pos="0">
                <a:srgbClr val="a4a6ed"/>
              </a:gs>
              <a:gs pos="100000">
                <a:srgbClr val="7174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708360" y="4437000"/>
            <a:ext cx="54356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ыявление передовой практики и перспек-тивных потребностей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для обеспечения доступа и обмена информацией, необходи-мой для принятия политических решений в области ОДО на уровне высшего образова-ния в целевых регионах, в том числе посред-ством оценки и мониторинга развития базы данных по ОДО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4724280"/>
            <a:ext cx="3059280" cy="1729080"/>
          </a:xfrm>
          <a:prstGeom prst="rect">
            <a:avLst/>
          </a:prstGeom>
          <a:solidFill>
            <a:srgbClr val="7174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. Оценка развития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  прое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59280" y="4724280"/>
            <a:ext cx="576000" cy="1729080"/>
          </a:xfrm>
          <a:prstGeom prst="rightArrow">
            <a:avLst>
              <a:gd name="adj1" fmla="val 100000"/>
              <a:gd name="adj2" fmla="val 100000"/>
            </a:avLst>
          </a:prstGeom>
          <a:gradFill rotWithShape="0">
            <a:gsLst>
              <a:gs pos="0">
                <a:srgbClr val="a4a6ed"/>
              </a:gs>
              <a:gs pos="100000">
                <a:srgbClr val="7174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153280" y="653724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80745"/>
                </a:solidFill>
                <a:latin typeface="Arial"/>
              </a:rPr>
              <a:t>Slide </a:t>
            </a:r>
            <a:fld id="{73B0467D-E57E-408D-852D-C0C5C692E108}" type="slidenum">
              <a:rPr b="0" lang="en-GB" sz="1800" spc="-1" strike="noStrike">
                <a:solidFill>
                  <a:srgbClr val="38074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404640"/>
            <a:ext cx="9144000" cy="432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251179"/>
                </a:solidFill>
                <a:latin typeface="Arial"/>
              </a:rPr>
              <a:t>РАЗВИТИЕ ПОТЕНЦИАЛА ДЛЯ ПРИНЯТИЯ РЕШЕНИЙ В ОБЛАСТИ ОД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36000" y="-144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ff"/>
                </a:solidFill>
                <a:latin typeface="Arial"/>
              </a:rPr>
              <a:t>ACTION</a:t>
            </a:r>
            <a:r>
              <a:rPr b="1" i="1" lang="ru-RU" sz="2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99ccff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153280" y="653724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80745"/>
                </a:solidFill>
                <a:latin typeface="Arial"/>
              </a:rPr>
              <a:t>Slide </a:t>
            </a:r>
            <a:fld id="{3D64475F-3039-48A7-A813-4020CBD45ACA}" type="slidenum">
              <a:rPr b="0" lang="en-GB" sz="1800" spc="-1" strike="noStrike">
                <a:solidFill>
                  <a:srgbClr val="38074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36360" y="-27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ccff"/>
                </a:solidFill>
                <a:latin typeface="Arial"/>
              </a:rPr>
              <a:t>Деятельность </a:t>
            </a:r>
            <a:r>
              <a:rPr b="1" i="1" lang="en-US" sz="2400" spc="-1" strike="noStrike">
                <a:solidFill>
                  <a:srgbClr val="99ccff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2200" y="2421000"/>
            <a:ext cx="835344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74000"/>
          </a:bodyPr>
          <a:p>
            <a:pPr marL="450720" indent="-450720" algn="just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витие потенциала для принятия решений в области ОДО в сфере высшего образования в целевых групп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 algn="just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здание и тестирование в регионах Справочника (руководства) для пользователя базы знаний, а также других учебных материалов по базе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 algn="just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работка стратегии обучения использованию базы знаний в регио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 algn="just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ведение в регионах практических семинаров для лиц, принимающих решения, по вопросам использования базы знаний для анализа и принятий ре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 algn="just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вершенствование и расширение базы зна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00000" y="836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500"/>
                            </p:stCondLst>
                            <p:childTnLst>
                              <p:par>
                                <p:cTn id="4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404640"/>
            <a:ext cx="9144000" cy="432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251179"/>
                </a:solidFill>
                <a:latin typeface="Arial"/>
              </a:rPr>
              <a:t>РАЗВИТИЕ ПОТЕНЦИАЛА ДЛЯ ПРИНЯТИЯ РЕШЕНИЙ В ОБЛАСТИ ОД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236000" y="-144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ff"/>
                </a:solidFill>
                <a:latin typeface="Arial"/>
              </a:rPr>
              <a:t>ACTION</a:t>
            </a:r>
            <a:r>
              <a:rPr b="1" i="1" lang="ru-RU" sz="2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99ccff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153280" y="653724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80745"/>
                </a:solidFill>
                <a:latin typeface="Arial"/>
              </a:rPr>
              <a:t>Slide </a:t>
            </a:r>
            <a:fld id="{CA82FBF6-1386-45E4-9A10-5E93E08D265E}" type="slidenum">
              <a:rPr b="0" lang="en-GB" sz="1800" spc="-1" strike="noStrike">
                <a:solidFill>
                  <a:srgbClr val="38074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-36360" y="-27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ccff"/>
                </a:solidFill>
                <a:latin typeface="Arial"/>
              </a:rPr>
              <a:t>Деятельность </a:t>
            </a:r>
            <a:r>
              <a:rPr b="1" i="1" lang="en-US" sz="2400" spc="-1" strike="noStrike">
                <a:solidFill>
                  <a:srgbClr val="99ccff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2560" y="2565360"/>
            <a:ext cx="813744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79000"/>
          </a:bodyPr>
          <a:p>
            <a:pPr marL="481320" indent="-481320">
              <a:lnSpc>
                <a:spcPct val="90000"/>
              </a:lnSpc>
              <a:spcBef>
                <a:spcPts val="15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работка учебных материалов и проведение практических семинаров для лиц, принимающих реш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1320" indent="-481320">
              <a:lnSpc>
                <a:spcPct val="90000"/>
              </a:lnSpc>
              <a:spcBef>
                <a:spcPts val="15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енинг и работа в сети (Африка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1320" indent="-481320">
              <a:lnSpc>
                <a:spcPct val="90000"/>
              </a:lnSpc>
              <a:spcBef>
                <a:spcPts val="15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енинг и работа в сети (Азия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1320" indent="-481320">
              <a:lnSpc>
                <a:spcPct val="90000"/>
              </a:lnSpc>
              <a:spcBef>
                <a:spcPts val="15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ординация межрегионального сотрудничества для развития потенци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11318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ероприятия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CTIVITI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404640"/>
            <a:ext cx="3780000" cy="649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251179"/>
                </a:solidFill>
                <a:latin typeface="Arial"/>
              </a:rPr>
              <a:t>Виды и этапы деятельности</a:t>
            </a:r>
            <a:br>
              <a:rPr sz="1900"/>
            </a:br>
            <a:r>
              <a:rPr b="0" i="1" lang="en-US" sz="1900" spc="-1" strike="noStrike">
                <a:solidFill>
                  <a:srgbClr val="251179"/>
                </a:solidFill>
                <a:latin typeface="Arial"/>
              </a:rPr>
              <a:t>в ходе выполнения проек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404640"/>
            <a:ext cx="5364000" cy="649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251179"/>
                </a:solidFill>
                <a:latin typeface="Arial"/>
              </a:rPr>
              <a:t>Ожидаемые результат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745080" y="1195560"/>
            <a:ext cx="50990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дание базы знан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 области ОДО на уровне высшего образования для лиц, принимающих решения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развивающихся странах и странах переходного периода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1123920"/>
            <a:ext cx="3059280" cy="1728720"/>
          </a:xfrm>
          <a:prstGeom prst="rect">
            <a:avLst/>
          </a:prstGeom>
          <a:solidFill>
            <a:srgbClr val="7174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. Создание базы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зн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76360" y="-14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ff"/>
                </a:solidFill>
                <a:latin typeface="Arial"/>
              </a:rPr>
              <a:t>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59280" y="1123920"/>
            <a:ext cx="576000" cy="1728720"/>
          </a:xfrm>
          <a:prstGeom prst="rightArrow">
            <a:avLst>
              <a:gd name="adj1" fmla="val 100000"/>
              <a:gd name="adj2" fmla="val 100000"/>
            </a:avLst>
          </a:prstGeom>
          <a:gradFill rotWithShape="0">
            <a:gsLst>
              <a:gs pos="0">
                <a:srgbClr val="a4a6ed"/>
              </a:gs>
              <a:gs pos="100000">
                <a:srgbClr val="7174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708360" y="2997360"/>
            <a:ext cx="5292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азвитие потенциал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в целевых регионах на основе ресурсов созданной базы данных, включающей политические докум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2924280"/>
            <a:ext cx="3059280" cy="1728720"/>
          </a:xfrm>
          <a:prstGeom prst="rect">
            <a:avLst/>
          </a:prstGeom>
          <a:solidFill>
            <a:srgbClr val="7174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. Развитие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 потенциала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 для принятия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 решений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 в области ОД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59280" y="2924280"/>
            <a:ext cx="576000" cy="1728720"/>
          </a:xfrm>
          <a:prstGeom prst="rightArrow">
            <a:avLst>
              <a:gd name="adj1" fmla="val 100000"/>
              <a:gd name="adj2" fmla="val 100000"/>
            </a:avLst>
          </a:prstGeom>
          <a:gradFill rotWithShape="0">
            <a:gsLst>
              <a:gs pos="0">
                <a:srgbClr val="a4a6ed"/>
              </a:gs>
              <a:gs pos="100000">
                <a:srgbClr val="7174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08360" y="4437000"/>
            <a:ext cx="54356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ыявление передовой практики и перспек-тивных потребностей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для обеспечения доступа и обмена информацией, необходи-мой для принятия политических решений в области ОДО на уровне высшего образова-ния в целевых регионах, в том числе посред-ством оценки и мониторинга развития базы данных по ОДО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4724280"/>
            <a:ext cx="3059280" cy="172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 Оценка развития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прое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59280" y="4724280"/>
            <a:ext cx="576000" cy="1729080"/>
          </a:xfrm>
          <a:prstGeom prst="rightArrow">
            <a:avLst>
              <a:gd name="adj1" fmla="val 100000"/>
              <a:gd name="adj2" fmla="val 100000"/>
            </a:avLst>
          </a:prstGeom>
          <a:gradFill rotWithShape="0">
            <a:gsLst>
              <a:gs pos="0">
                <a:srgbClr val="a4a6ed"/>
              </a:gs>
              <a:gs pos="100000">
                <a:srgbClr val="7174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153280" y="653724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80745"/>
                </a:solidFill>
                <a:latin typeface="Arial"/>
              </a:rPr>
              <a:t>Slide </a:t>
            </a:r>
            <a:fld id="{E1D92273-E882-4E7A-A7BE-C913B805F48C}" type="slidenum">
              <a:rPr b="0" lang="en-GB" sz="1800" spc="-1" strike="noStrike">
                <a:solidFill>
                  <a:srgbClr val="38074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404640"/>
            <a:ext cx="9144000" cy="432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51179"/>
                </a:solidFill>
                <a:latin typeface="Arial"/>
              </a:rPr>
              <a:t>ОЦЕНКА РАЗВИТИЯ ПРОЕ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236000" y="-144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ff"/>
                </a:solidFill>
                <a:latin typeface="Arial"/>
              </a:rPr>
              <a:t>ACTION</a:t>
            </a:r>
            <a:r>
              <a:rPr b="1" i="1" lang="ru-RU" sz="2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99ccff"/>
                </a:solidFill>
                <a:latin typeface="Arial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153280" y="653724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80745"/>
                </a:solidFill>
                <a:latin typeface="Arial"/>
              </a:rPr>
              <a:t>Slide </a:t>
            </a:r>
            <a:fld id="{DD6911AB-11DC-44D5-B0B5-183070880505}" type="slidenum">
              <a:rPr b="0" lang="en-GB" sz="1800" spc="-1" strike="noStrike">
                <a:solidFill>
                  <a:srgbClr val="38074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-36360" y="-27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ccff"/>
                </a:solidFill>
                <a:latin typeface="Arial"/>
              </a:rPr>
              <a:t>Деятельность </a:t>
            </a:r>
            <a:r>
              <a:rPr b="1" i="1" lang="en-US" sz="2400" spc="-1" strike="noStrike">
                <a:solidFill>
                  <a:srgbClr val="99ccff"/>
                </a:solidFill>
                <a:latin typeface="Arial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9640" y="2924280"/>
            <a:ext cx="417672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ценка и мониторинг развития проекта для определения лучшего опыта и выработки стратегии дальнейше-го развития проек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46560" y="1628640"/>
            <a:ext cx="34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роприятия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CTIVIT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19640" y="3068640"/>
            <a:ext cx="3384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Оценка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 мониторинг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98560" y="16286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d0975"/>
              </a:gs>
              <a:gs pos="100000">
                <a:srgbClr val="6019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360360" y="681120"/>
            <a:ext cx="954000" cy="8208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503360" y="1482840"/>
            <a:ext cx="7640640" cy="0"/>
          </a:xfrm>
          <a:prstGeom prst="line">
            <a:avLst/>
          </a:prstGeom>
          <a:ln w="38160">
            <a:solidFill>
              <a:srgbClr val="5a5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492200" y="363600"/>
            <a:ext cx="7651800" cy="6494400"/>
          </a:xfrm>
          <a:prstGeom prst="line">
            <a:avLst/>
          </a:prstGeom>
          <a:ln w="38160">
            <a:solidFill>
              <a:srgbClr val="5a5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6067440" y="1292400"/>
            <a:ext cx="2559960" cy="2309040"/>
            <a:chOff x="6067440" y="1292400"/>
            <a:chExt cx="2559960" cy="2309040"/>
          </a:xfrm>
        </p:grpSpPr>
        <p:grpSp>
          <p:nvGrpSpPr>
            <p:cNvPr id="268" name=""/>
            <p:cNvGrpSpPr/>
            <p:nvPr/>
          </p:nvGrpSpPr>
          <p:grpSpPr>
            <a:xfrm>
              <a:off x="6067440" y="1292400"/>
              <a:ext cx="2559960" cy="2309040"/>
              <a:chOff x="6067440" y="1292400"/>
              <a:chExt cx="2559960" cy="2309040"/>
            </a:xfrm>
          </p:grpSpPr>
          <p:sp>
            <p:nvSpPr>
              <p:cNvPr id="269" name=""/>
              <p:cNvSpPr/>
              <p:nvPr/>
            </p:nvSpPr>
            <p:spPr>
              <a:xfrm>
                <a:off x="6734160" y="1999440"/>
                <a:ext cx="1516680" cy="1602000"/>
              </a:xfrm>
              <a:prstGeom prst="ellipse">
                <a:avLst/>
              </a:prstGeom>
              <a:solidFill>
                <a:srgbClr val="808080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0" name="" descr=""/>
              <p:cNvPicPr/>
              <p:nvPr/>
            </p:nvPicPr>
            <p:blipFill>
              <a:blip r:embed="rId2">
                <a:lum bright="-10000"/>
              </a:blip>
              <a:srcRect l="1546" t="0" r="0" b="0"/>
              <a:stretch/>
            </p:blipFill>
            <p:spPr>
              <a:xfrm>
                <a:off x="6067440" y="1292400"/>
                <a:ext cx="2559960" cy="223740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</p:pic>
        </p:grpSp>
        <p:sp>
          <p:nvSpPr>
            <p:cNvPr id="271" name=""/>
            <p:cNvSpPr/>
            <p:nvPr/>
          </p:nvSpPr>
          <p:spPr>
            <a:xfrm>
              <a:off x="7635960" y="1983960"/>
              <a:ext cx="83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I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361800" y="5332320"/>
            <a:ext cx="878220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НСТИТУТ ЮНЕС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ПО ИНФОРМАЦИОННЫМ ТЕХНОЛОГИЯМ В ОБРАЗОВАН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404640"/>
            <a:ext cx="9144000" cy="432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51179"/>
                </a:solidFill>
                <a:latin typeface="Arial"/>
              </a:rPr>
              <a:t>СОЗДАНИЕ БАЗЫ ЗН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308720" y="-14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ff"/>
                </a:solidFill>
                <a:latin typeface="Arial"/>
              </a:rPr>
              <a:t>ACTION</a:t>
            </a:r>
            <a:r>
              <a:rPr b="1" i="1" lang="ru-RU" sz="2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99cc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153280" y="653724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80745"/>
                </a:solidFill>
                <a:latin typeface="Arial"/>
              </a:rPr>
              <a:t>Slide </a:t>
            </a:r>
            <a:fld id="{DC48AC21-59A8-43A4-8AED-834971078822}" type="slidenum">
              <a:rPr b="0" lang="en-GB" sz="1800" spc="-1" strike="noStrike">
                <a:solidFill>
                  <a:srgbClr val="38074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-36360" y="-27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ccff"/>
                </a:solidFill>
                <a:latin typeface="Arial"/>
              </a:rPr>
              <a:t>Деятельность </a:t>
            </a:r>
            <a:r>
              <a:rPr b="1" i="1" lang="en-US" sz="2400" spc="-1" strike="noStrike">
                <a:solidFill>
                  <a:srgbClr val="99cc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2200" y="2852640"/>
            <a:ext cx="835344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77000"/>
          </a:bodyPr>
          <a:p>
            <a:pPr marL="469080" indent="-469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нализ информационных потребностей на уровне принятия реш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080" indent="-469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пределение категорий потребителей информации для ее классификации в соответствии с определенными нужд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080" indent="-469080" algn="just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азработка средств для накопления содержания и техническая спецификация баз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080" indent="-469080" algn="just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оведение совещания экспертов в области высшего образования для определения приоритетов при наполнении базы знаний содержанием, а также стратегии сбора данн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080" indent="-469080" algn="just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оздание механизма и ресурсов для поступления данных и выработка стратегии непрерывной пополняемости базы зна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1341360"/>
            <a:ext cx="9144000" cy="43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51179"/>
                </a:solidFill>
                <a:latin typeface="Arial"/>
              </a:rPr>
              <a:t>Создание базы знаний в регионе </a:t>
            </a:r>
            <a:r>
              <a:rPr b="1" i="1" lang="en-US" sz="2200" spc="-1" strike="noStrike">
                <a:solidFill>
                  <a:srgbClr val="251179"/>
                </a:solidFill>
                <a:latin typeface="Arial"/>
              </a:rPr>
              <a:t>III</a:t>
            </a:r>
            <a:r>
              <a:rPr b="1" i="1" lang="ru-RU" sz="2200" spc="-1" strike="noStrike">
                <a:solidFill>
                  <a:srgbClr val="251179"/>
                </a:solidFill>
                <a:latin typeface="Arial"/>
              </a:rPr>
              <a:t> – страны СНГ и Балт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308720" y="9349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ff"/>
                </a:solidFill>
                <a:latin typeface="Arial"/>
              </a:rPr>
              <a:t>ACTIVITY</a:t>
            </a:r>
            <a:r>
              <a:rPr b="1" i="1" lang="ru-RU" sz="24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ccc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-36360" y="909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ff"/>
                </a:solidFill>
                <a:latin typeface="Arial"/>
              </a:rPr>
              <a:t>Мероприятие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8715240" y="1989000"/>
            <a:ext cx="428760" cy="306360"/>
          </a:xfrm>
          <a:custGeom>
            <a:avLst/>
            <a:gdLst>
              <a:gd name="textAreaLeft" fmla="*/ 40320 w 428760"/>
              <a:gd name="textAreaRight" fmla="*/ 388440 w 428760"/>
              <a:gd name="textAreaTop" fmla="*/ 40320 h 306360"/>
              <a:gd name="textAreaBottom" fmla="*/ 266040 h 30636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7365" y="2855"/>
                </a:lnTo>
                <a:lnTo>
                  <a:pt x="2855" y="2855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7365" y="18745"/>
                </a:lnTo>
                <a:lnTo>
                  <a:pt x="27365" y="2855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2855" y="18745"/>
                </a:lnTo>
                <a:lnTo>
                  <a:pt x="27365" y="18745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2855" y="2855"/>
                </a:lnTo>
                <a:lnTo>
                  <a:pt x="2855" y="18745"/>
                </a:lnTo>
                <a:close/>
              </a:path>
              <a:path fill="darken" w="30220" h="21600">
                <a:moveTo>
                  <a:pt x="9188" y="8005"/>
                </a:moveTo>
                <a:lnTo>
                  <a:pt x="12153" y="8005"/>
                </a:lnTo>
                <a:lnTo>
                  <a:pt x="12153" y="12514"/>
                </a:lnTo>
                <a:cubicBezTo>
                  <a:pt x="12153" y="13294"/>
                  <a:pt x="12829" y="13912"/>
                  <a:pt x="13705" y="13912"/>
                </a:cubicBezTo>
                <a:lnTo>
                  <a:pt x="15110" y="13912"/>
                </a:lnTo>
                <a:cubicBezTo>
                  <a:pt x="15985" y="13912"/>
                  <a:pt x="16662" y="13294"/>
                  <a:pt x="16662" y="12514"/>
                </a:cubicBezTo>
                <a:lnTo>
                  <a:pt x="16662" y="8005"/>
                </a:lnTo>
                <a:lnTo>
                  <a:pt x="15110" y="8005"/>
                </a:lnTo>
                <a:lnTo>
                  <a:pt x="18075" y="5040"/>
                </a:lnTo>
                <a:lnTo>
                  <a:pt x="21179" y="8005"/>
                </a:lnTo>
                <a:lnTo>
                  <a:pt x="19627" y="8005"/>
                </a:lnTo>
                <a:lnTo>
                  <a:pt x="19627" y="12514"/>
                </a:lnTo>
                <a:cubicBezTo>
                  <a:pt x="19627" y="14853"/>
                  <a:pt x="17449" y="17016"/>
                  <a:pt x="15110" y="17016"/>
                </a:cubicBezTo>
                <a:lnTo>
                  <a:pt x="13705" y="17016"/>
                </a:lnTo>
                <a:cubicBezTo>
                  <a:pt x="11365" y="17016"/>
                  <a:pt x="9188" y="14853"/>
                  <a:pt x="9188" y="12514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404640"/>
            <a:ext cx="9144000" cy="432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51179"/>
                </a:solidFill>
                <a:latin typeface="Arial"/>
              </a:rPr>
              <a:t>СОЗДАНИЕ БАЗЫ ЗН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308720" y="-14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ff"/>
                </a:solidFill>
                <a:latin typeface="Arial"/>
              </a:rPr>
              <a:t>ACTION</a:t>
            </a:r>
            <a:r>
              <a:rPr b="1" i="1" lang="ru-RU" sz="2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99cc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153280" y="653724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80745"/>
                </a:solidFill>
                <a:latin typeface="Arial"/>
              </a:rPr>
              <a:t>Slide </a:t>
            </a:r>
            <a:fld id="{6E02F1E2-9FCB-4F7A-A8C0-CCFA3594FB1D}" type="slidenum">
              <a:rPr b="0" lang="en-GB" sz="1800" spc="-1" strike="noStrike">
                <a:solidFill>
                  <a:srgbClr val="38074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-36360" y="-27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ccff"/>
                </a:solidFill>
                <a:latin typeface="Arial"/>
              </a:rPr>
              <a:t>Деятельность </a:t>
            </a:r>
            <a:r>
              <a:rPr b="1" i="1" lang="en-US" sz="2400" spc="-1" strike="noStrike">
                <a:solidFill>
                  <a:srgbClr val="99cc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2200" y="2852640"/>
            <a:ext cx="835344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75000"/>
          </a:bodyPr>
          <a:p>
            <a:pPr marL="456840" indent="-456840" algn="just">
              <a:lnSpc>
                <a:spcPct val="90000"/>
              </a:lnSpc>
              <a:spcBef>
                <a:spcPts val="11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Создание организационной структуры базы знаний (на основе результатов, полученных в регионах, и при консультациях с регионами).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just">
              <a:lnSpc>
                <a:spcPct val="90000"/>
              </a:lnSpc>
              <a:spcBef>
                <a:spcPts val="11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Разработка прототипа базы знаний (в сотруд-ничестве с регионами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just">
              <a:lnSpc>
                <a:spcPct val="90000"/>
              </a:lnSpc>
              <a:spcBef>
                <a:spcPts val="11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Разработка процедур постоянного обновления базы данны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just">
              <a:lnSpc>
                <a:spcPct val="90000"/>
              </a:lnSpc>
              <a:spcBef>
                <a:spcPts val="11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Содействие межрегиональной совместимости (сопоставимости) содержания посредством поддержки проведению регионального анализа потребностей и существующих информацион-ных структур, в том числе через содействие информационному обмену между различными регионам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341360"/>
            <a:ext cx="9144000" cy="43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51179"/>
                </a:solidFill>
                <a:latin typeface="Arial"/>
              </a:rPr>
              <a:t>Поддержка развития базы зн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308720" y="9349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ff"/>
                </a:solidFill>
                <a:latin typeface="Arial"/>
              </a:rPr>
              <a:t>ACTIVITY</a:t>
            </a:r>
            <a:r>
              <a:rPr b="1" i="1" lang="ru-RU" sz="24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ccc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-36360" y="909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ccff"/>
                </a:solidFill>
                <a:latin typeface="Arial"/>
              </a:rPr>
              <a:t>Мероприятие </a:t>
            </a:r>
            <a:r>
              <a:rPr b="1" i="1" lang="en-US" sz="2400" spc="-1" strike="noStrike">
                <a:solidFill>
                  <a:srgbClr val="cccc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8715240" y="1989000"/>
            <a:ext cx="428760" cy="306360"/>
          </a:xfrm>
          <a:custGeom>
            <a:avLst/>
            <a:gdLst>
              <a:gd name="textAreaLeft" fmla="*/ 40320 w 428760"/>
              <a:gd name="textAreaRight" fmla="*/ 388440 w 428760"/>
              <a:gd name="textAreaTop" fmla="*/ 40320 h 306360"/>
              <a:gd name="textAreaBottom" fmla="*/ 266040 h 30636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7365" y="2855"/>
                </a:lnTo>
                <a:lnTo>
                  <a:pt x="2855" y="2855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7365" y="18745"/>
                </a:lnTo>
                <a:lnTo>
                  <a:pt x="27365" y="2855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2855" y="18745"/>
                </a:lnTo>
                <a:lnTo>
                  <a:pt x="27365" y="18745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2855" y="2855"/>
                </a:lnTo>
                <a:lnTo>
                  <a:pt x="2855" y="18745"/>
                </a:lnTo>
                <a:close/>
              </a:path>
              <a:path fill="darken" w="30220" h="21600">
                <a:moveTo>
                  <a:pt x="9188" y="8005"/>
                </a:moveTo>
                <a:lnTo>
                  <a:pt x="12153" y="8005"/>
                </a:lnTo>
                <a:lnTo>
                  <a:pt x="12153" y="12514"/>
                </a:lnTo>
                <a:cubicBezTo>
                  <a:pt x="12153" y="13294"/>
                  <a:pt x="12829" y="13912"/>
                  <a:pt x="13705" y="13912"/>
                </a:cubicBezTo>
                <a:lnTo>
                  <a:pt x="15110" y="13912"/>
                </a:lnTo>
                <a:cubicBezTo>
                  <a:pt x="15985" y="13912"/>
                  <a:pt x="16662" y="13294"/>
                  <a:pt x="16662" y="12514"/>
                </a:cubicBezTo>
                <a:lnTo>
                  <a:pt x="16662" y="8005"/>
                </a:lnTo>
                <a:lnTo>
                  <a:pt x="15110" y="8005"/>
                </a:lnTo>
                <a:lnTo>
                  <a:pt x="18075" y="5040"/>
                </a:lnTo>
                <a:lnTo>
                  <a:pt x="21179" y="8005"/>
                </a:lnTo>
                <a:lnTo>
                  <a:pt x="19627" y="8005"/>
                </a:lnTo>
                <a:lnTo>
                  <a:pt x="19627" y="12514"/>
                </a:lnTo>
                <a:cubicBezTo>
                  <a:pt x="19627" y="14853"/>
                  <a:pt x="17449" y="17016"/>
                  <a:pt x="15110" y="17016"/>
                </a:cubicBezTo>
                <a:lnTo>
                  <a:pt x="13705" y="17016"/>
                </a:lnTo>
                <a:cubicBezTo>
                  <a:pt x="11365" y="17016"/>
                  <a:pt x="9188" y="14853"/>
                  <a:pt x="9188" y="12514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500"/>
                            </p:stCondLst>
                            <p:childTnLst>
                              <p:par>
                                <p:cTn id="5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flipH="1">
            <a:off x="2819520" y="2666880"/>
            <a:ext cx="2743200" cy="0"/>
          </a:xfrm>
          <a:prstGeom prst="line">
            <a:avLst/>
          </a:prstGeom>
          <a:ln w="101520">
            <a:solidFill>
              <a:srgbClr val="6c92f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477480" y="2819160"/>
            <a:ext cx="2132640" cy="1904400"/>
            <a:chOff x="6477480" y="2819160"/>
            <a:chExt cx="2132640" cy="1904400"/>
          </a:xfrm>
        </p:grpSpPr>
        <p:sp>
          <p:nvSpPr>
            <p:cNvPr id="56" name=""/>
            <p:cNvSpPr/>
            <p:nvPr/>
          </p:nvSpPr>
          <p:spPr>
            <a:xfrm flipV="1">
              <a:off x="6477480" y="2818800"/>
              <a:ext cx="2132640" cy="190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01520">
              <a:solidFill>
                <a:srgbClr val="6c92f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480" y="2819520"/>
              <a:ext cx="2132640" cy="190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01520">
              <a:solidFill>
                <a:srgbClr val="6c92f2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447920" y="2666880"/>
            <a:ext cx="2895480" cy="2209680"/>
            <a:chOff x="1447920" y="2666880"/>
            <a:chExt cx="2895480" cy="2209680"/>
          </a:xfrm>
        </p:grpSpPr>
        <p:sp>
          <p:nvSpPr>
            <p:cNvPr id="59" name=""/>
            <p:cNvSpPr/>
            <p:nvPr/>
          </p:nvSpPr>
          <p:spPr>
            <a:xfrm>
              <a:off x="1447920" y="2666880"/>
              <a:ext cx="2895480" cy="2209680"/>
            </a:xfrm>
            <a:prstGeom prst="ellipse">
              <a:avLst/>
            </a:prstGeom>
            <a:noFill/>
            <a:ln w="101520">
              <a:solidFill>
                <a:srgbClr val="6c9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667240" y="4876560"/>
              <a:ext cx="380880" cy="0"/>
            </a:xfrm>
            <a:prstGeom prst="line">
              <a:avLst/>
            </a:prstGeom>
            <a:ln w="101520">
              <a:solidFill>
                <a:srgbClr val="6c92f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2971800" y="4876920"/>
            <a:ext cx="2514600" cy="0"/>
          </a:xfrm>
          <a:prstGeom prst="line">
            <a:avLst/>
          </a:prstGeom>
          <a:ln w="101520">
            <a:solidFill>
              <a:srgbClr val="6c92f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c1a8"/>
                </a:solidFill>
                <a:latin typeface="Arial"/>
              </a:rPr>
              <a:t>Основные направления деятельности ИИТО</a:t>
            </a:r>
            <a:endParaRPr b="0" lang="en-US" sz="4000" spc="-1" strike="noStrike">
              <a:solidFill>
                <a:srgbClr val="fec1a8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209680"/>
            <a:ext cx="2057400" cy="925560"/>
          </a:xfrm>
          <a:prstGeom prst="rect">
            <a:avLst/>
          </a:prstGeom>
          <a:gradFill rotWithShape="0">
            <a:gsLst>
              <a:gs pos="0">
                <a:srgbClr val="f3d9f2"/>
              </a:gs>
              <a:gs pos="100000">
                <a:srgbClr val="eab2e7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c8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2a136b"/>
                </a:solidFill>
                <a:latin typeface="Arial Narrow"/>
              </a:rPr>
              <a:t>ЗАПРОСЫ ГОСУДАРСТВ-ЧЛЕНОВ ЮНЕСК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4800" y="3352680"/>
            <a:ext cx="1986120" cy="925560"/>
          </a:xfrm>
          <a:prstGeom prst="rect">
            <a:avLst/>
          </a:prstGeom>
          <a:gradFill rotWithShape="0">
            <a:gsLst>
              <a:gs pos="0">
                <a:srgbClr val="d7fafe"/>
              </a:gs>
              <a:gs pos="100000">
                <a:srgbClr val="aff7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c8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a136b"/>
                </a:solidFill>
                <a:latin typeface="Arial Narrow"/>
              </a:rPr>
              <a:t>ПРИКЛАДНЫЕ ИССЛЕДОВА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95720" y="3352680"/>
            <a:ext cx="1985760" cy="925560"/>
          </a:xfrm>
          <a:prstGeom prst="rect">
            <a:avLst/>
          </a:prstGeom>
          <a:gradFill rotWithShape="0">
            <a:gsLst>
              <a:gs pos="0">
                <a:srgbClr val="e0fce8"/>
              </a:gs>
              <a:gs pos="100000">
                <a:srgbClr val="c2fc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c8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a136b"/>
                </a:solidFill>
                <a:latin typeface="Arial Narrow"/>
              </a:rPr>
              <a:t>ОБУЧЕНИ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24560" y="4408560"/>
            <a:ext cx="2057400" cy="925560"/>
          </a:xfrm>
          <a:prstGeom prst="rect">
            <a:avLst/>
          </a:prstGeom>
          <a:gradFill rotWithShape="0">
            <a:gsLst>
              <a:gs pos="0">
                <a:srgbClr val="f9f6d8"/>
              </a:gs>
              <a:gs pos="100000">
                <a:srgbClr val="f5f0b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c8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2a136b"/>
                </a:solidFill>
                <a:latin typeface="Arial Narrow"/>
              </a:rPr>
              <a:t>РАСПРОСТРАНЕНИ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477480" y="2819160"/>
            <a:ext cx="2132640" cy="1904400"/>
            <a:chOff x="6477480" y="2819160"/>
            <a:chExt cx="2132640" cy="1904400"/>
          </a:xfrm>
        </p:grpSpPr>
        <p:sp>
          <p:nvSpPr>
            <p:cNvPr id="68" name=""/>
            <p:cNvSpPr/>
            <p:nvPr/>
          </p:nvSpPr>
          <p:spPr>
            <a:xfrm flipV="1">
              <a:off x="6477480" y="2818800"/>
              <a:ext cx="2132640" cy="190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01520">
              <a:solidFill>
                <a:srgbClr val="6c92f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77480" y="2819520"/>
              <a:ext cx="2132640" cy="190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01520">
              <a:solidFill>
                <a:srgbClr val="6c92f2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477480" y="2819160"/>
            <a:ext cx="2132640" cy="1904400"/>
            <a:chOff x="6477480" y="2819160"/>
            <a:chExt cx="2132640" cy="1904400"/>
          </a:xfrm>
        </p:grpSpPr>
        <p:sp>
          <p:nvSpPr>
            <p:cNvPr id="71" name=""/>
            <p:cNvSpPr/>
            <p:nvPr/>
          </p:nvSpPr>
          <p:spPr>
            <a:xfrm flipV="1">
              <a:off x="6477480" y="2818800"/>
              <a:ext cx="2132640" cy="190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01520">
              <a:solidFill>
                <a:srgbClr val="6c92f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477480" y="2819520"/>
              <a:ext cx="2132640" cy="190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01520">
              <a:solidFill>
                <a:srgbClr val="6c92f2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evt="end">
                                        <p:tn val="57"/>
                                      </p:cond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evt="end">
                                        <p:tn val="62"/>
                                      </p:cond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47480" y="2933280"/>
            <a:ext cx="8227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сновные направления сотрудничества 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Института ЮНЕСКО 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 информационным технологиям в образовании 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с государствами – 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частниками СНГ</a:t>
            </a:r>
            <a:endParaRPr b="0" lang="en-US" sz="4200" spc="-1" strike="noStrike">
              <a:solidFill>
                <a:srgbClr val="fec1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9930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c1a8"/>
                </a:solidFill>
                <a:latin typeface="Arial"/>
              </a:rPr>
              <a:t>Национальные пилотные проекты ИИТО </a:t>
            </a:r>
            <a:br>
              <a:rPr sz="3200"/>
            </a:br>
            <a:r>
              <a:rPr b="0" lang="ru-RU" sz="3200" spc="-1" strike="noStrike">
                <a:solidFill>
                  <a:srgbClr val="fec1a8"/>
                </a:solidFill>
                <a:latin typeface="Arial"/>
              </a:rPr>
              <a:t>для государств – участников СНГ</a:t>
            </a:r>
            <a:endParaRPr b="0" lang="en-US" sz="3200" spc="-1" strike="noStrike">
              <a:solidFill>
                <a:srgbClr val="fec1a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640" y="1812960"/>
            <a:ext cx="828216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490680" indent="-4906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нение ИКТ в образовании для лиц с особыми потребностями (Армен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станционное обучение для сельских школ (Казахста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нение дистанционных методов обучения в образовании (Кыргызста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а и переподготовка педагогических кадров в области использования ИКТ в образовании (Молдов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ышение квалификации работников системы образования в области применения ИКТ в образовании (Росс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нение методов дистанционного обучения в образовании (Украи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9930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c1a8"/>
                </a:solidFill>
                <a:latin typeface="Arial"/>
              </a:rPr>
              <a:t>Проекты ИИТО для государств – участников СНГ в 2002-2003 гг.</a:t>
            </a:r>
            <a:endParaRPr b="0" lang="en-US" sz="3200" spc="-1" strike="noStrike">
              <a:solidFill>
                <a:srgbClr val="fec1a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4360" y="1740960"/>
            <a:ext cx="7848360" cy="44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marL="485280" indent="-485280">
              <a:lnSpc>
                <a:spcPct val="95000"/>
              </a:lnSpc>
              <a:spcBef>
                <a:spcPts val="1687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Высшее открытое и дистанционное образование: база знаний для лиц, ответственных за принятие решений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95000"/>
              </a:lnSpc>
              <a:spcBef>
                <a:spcPts val="1687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Создание комплекта тренинговых материалов по подготовке персонала для дистанционного обучения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95000"/>
              </a:lnSpc>
              <a:spcBef>
                <a:spcPts val="1687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Дистанционное обучение в странах СНГ: мониторинг потребностей и возможностей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95000"/>
              </a:lnSpc>
              <a:spcBef>
                <a:spcPts val="1687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Создание распределенной информационной системы ИИТО – национальные опорные пункты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038480" y="11811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ttp://www.iite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82600" y="6477120"/>
            <a:ext cx="217008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0" bIns="0" anchor="ctr" anchorCtr="1">
            <a:no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251179"/>
                </a:solidFill>
                <a:latin typeface="Arial"/>
              </a:rPr>
              <a:t>IITE websi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49360" y="1778040"/>
            <a:ext cx="6321600" cy="4511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43000" y="1181160"/>
            <a:ext cx="32767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WW POR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90840" y="6477120"/>
            <a:ext cx="169092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0" bIns="0" anchor="ctr" anchorCtr="1">
            <a:no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251179"/>
                </a:solidFill>
                <a:latin typeface="Arial"/>
              </a:rPr>
              <a:t>Databa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24600" y="6477120"/>
            <a:ext cx="283824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0" bIns="0" anchor="ctr" anchorCtr="1">
            <a:no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251179"/>
                </a:solidFill>
                <a:latin typeface="Arial"/>
              </a:rPr>
              <a:t>Interactive too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47920" y="1760400"/>
            <a:ext cx="6323040" cy="4548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449360" y="1766880"/>
            <a:ext cx="6323040" cy="4537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ec1a8"/>
                </a:solidFill>
                <a:latin typeface="Arial"/>
              </a:rPr>
              <a:t>ИИТО ЮНЕСКО</a:t>
            </a:r>
            <a:r>
              <a:rPr b="0" lang="en-GB" sz="4000" spc="-1" strike="noStrike">
                <a:solidFill>
                  <a:srgbClr val="fec1a8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399960" y="2301840"/>
            <a:ext cx="8511840" cy="3944880"/>
            <a:chOff x="399960" y="2301840"/>
            <a:chExt cx="8511840" cy="3944880"/>
          </a:xfrm>
        </p:grpSpPr>
        <p:sp>
          <p:nvSpPr>
            <p:cNvPr id="88" name=""/>
            <p:cNvSpPr/>
            <p:nvPr/>
          </p:nvSpPr>
          <p:spPr>
            <a:xfrm rot="1386600">
              <a:off x="4196880" y="2782440"/>
              <a:ext cx="115920" cy="15696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46" y="14"/>
                  </a:moveTo>
                  <a:lnTo>
                    <a:pt x="38" y="14"/>
                  </a:lnTo>
                  <a:lnTo>
                    <a:pt x="38" y="19"/>
                  </a:lnTo>
                  <a:lnTo>
                    <a:pt x="46" y="19"/>
                  </a:lnTo>
                  <a:lnTo>
                    <a:pt x="46" y="25"/>
                  </a:lnTo>
                  <a:lnTo>
                    <a:pt x="46" y="33"/>
                  </a:lnTo>
                  <a:lnTo>
                    <a:pt x="38" y="33"/>
                  </a:lnTo>
                  <a:lnTo>
                    <a:pt x="38" y="38"/>
                  </a:lnTo>
                  <a:lnTo>
                    <a:pt x="32" y="38"/>
                  </a:lnTo>
                  <a:lnTo>
                    <a:pt x="27" y="38"/>
                  </a:lnTo>
                  <a:lnTo>
                    <a:pt x="19" y="38"/>
                  </a:lnTo>
                  <a:lnTo>
                    <a:pt x="19" y="44"/>
                  </a:lnTo>
                  <a:lnTo>
                    <a:pt x="13" y="44"/>
                  </a:lnTo>
                  <a:lnTo>
                    <a:pt x="8" y="44"/>
                  </a:lnTo>
                  <a:lnTo>
                    <a:pt x="8" y="38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33"/>
                  </a:lnTo>
                  <a:lnTo>
                    <a:pt x="13" y="33"/>
                  </a:lnTo>
                  <a:lnTo>
                    <a:pt x="8" y="33"/>
                  </a:lnTo>
                  <a:lnTo>
                    <a:pt x="13" y="25"/>
                  </a:lnTo>
                  <a:lnTo>
                    <a:pt x="8" y="25"/>
                  </a:lnTo>
                  <a:lnTo>
                    <a:pt x="13" y="25"/>
                  </a:lnTo>
                  <a:lnTo>
                    <a:pt x="13" y="19"/>
                  </a:lnTo>
                  <a:lnTo>
                    <a:pt x="13" y="25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8" y="19"/>
                  </a:lnTo>
                  <a:lnTo>
                    <a:pt x="8" y="14"/>
                  </a:lnTo>
                  <a:lnTo>
                    <a:pt x="8" y="6"/>
                  </a:lnTo>
                  <a:lnTo>
                    <a:pt x="13" y="14"/>
                  </a:lnTo>
                  <a:lnTo>
                    <a:pt x="19" y="14"/>
                  </a:lnTo>
                  <a:lnTo>
                    <a:pt x="19" y="6"/>
                  </a:lnTo>
                  <a:lnTo>
                    <a:pt x="27" y="6"/>
                  </a:lnTo>
                  <a:lnTo>
                    <a:pt x="19" y="6"/>
                  </a:lnTo>
                  <a:lnTo>
                    <a:pt x="19" y="0"/>
                  </a:lnTo>
                  <a:lnTo>
                    <a:pt x="27" y="0"/>
                  </a:lnTo>
                  <a:lnTo>
                    <a:pt x="32" y="0"/>
                  </a:lnTo>
                </a:path>
              </a:pathLst>
            </a:custGeom>
            <a:solidFill>
              <a:srgbClr val="dd9bab">
                <a:alpha val="50000"/>
              </a:srgbClr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386600">
              <a:off x="4317480" y="2687400"/>
              <a:ext cx="192240" cy="381240"/>
            </a:xfrm>
            <a:custGeom>
              <a:avLst/>
              <a:gdLst/>
              <a:ahLst/>
              <a:rect l="l" t="t" r="r" b="b"/>
              <a:pathLst>
                <a:path w="78" h="110">
                  <a:moveTo>
                    <a:pt x="57" y="65"/>
                  </a:moveTo>
                  <a:lnTo>
                    <a:pt x="63" y="71"/>
                  </a:lnTo>
                  <a:lnTo>
                    <a:pt x="57" y="79"/>
                  </a:lnTo>
                  <a:lnTo>
                    <a:pt x="63" y="79"/>
                  </a:lnTo>
                  <a:lnTo>
                    <a:pt x="63" y="71"/>
                  </a:lnTo>
                  <a:lnTo>
                    <a:pt x="71" y="71"/>
                  </a:lnTo>
                  <a:lnTo>
                    <a:pt x="77" y="79"/>
                  </a:lnTo>
                  <a:lnTo>
                    <a:pt x="77" y="84"/>
                  </a:lnTo>
                  <a:lnTo>
                    <a:pt x="71" y="84"/>
                  </a:lnTo>
                  <a:lnTo>
                    <a:pt x="63" y="90"/>
                  </a:lnTo>
                  <a:lnTo>
                    <a:pt x="71" y="90"/>
                  </a:lnTo>
                  <a:lnTo>
                    <a:pt x="71" y="98"/>
                  </a:lnTo>
                  <a:lnTo>
                    <a:pt x="63" y="98"/>
                  </a:lnTo>
                  <a:lnTo>
                    <a:pt x="63" y="104"/>
                  </a:lnTo>
                  <a:lnTo>
                    <a:pt x="57" y="98"/>
                  </a:lnTo>
                  <a:lnTo>
                    <a:pt x="52" y="104"/>
                  </a:lnTo>
                  <a:lnTo>
                    <a:pt x="52" y="98"/>
                  </a:lnTo>
                  <a:lnTo>
                    <a:pt x="44" y="104"/>
                  </a:lnTo>
                  <a:lnTo>
                    <a:pt x="38" y="104"/>
                  </a:lnTo>
                  <a:lnTo>
                    <a:pt x="31" y="104"/>
                  </a:lnTo>
                  <a:lnTo>
                    <a:pt x="25" y="104"/>
                  </a:lnTo>
                  <a:lnTo>
                    <a:pt x="19" y="109"/>
                  </a:lnTo>
                  <a:lnTo>
                    <a:pt x="19" y="104"/>
                  </a:lnTo>
                  <a:lnTo>
                    <a:pt x="11" y="104"/>
                  </a:lnTo>
                  <a:lnTo>
                    <a:pt x="6" y="109"/>
                  </a:lnTo>
                  <a:lnTo>
                    <a:pt x="0" y="109"/>
                  </a:lnTo>
                  <a:lnTo>
                    <a:pt x="6" y="104"/>
                  </a:lnTo>
                  <a:lnTo>
                    <a:pt x="11" y="104"/>
                  </a:lnTo>
                  <a:lnTo>
                    <a:pt x="11" y="98"/>
                  </a:lnTo>
                  <a:lnTo>
                    <a:pt x="19" y="98"/>
                  </a:lnTo>
                  <a:lnTo>
                    <a:pt x="25" y="98"/>
                  </a:lnTo>
                  <a:lnTo>
                    <a:pt x="31" y="90"/>
                  </a:lnTo>
                  <a:lnTo>
                    <a:pt x="25" y="90"/>
                  </a:lnTo>
                  <a:lnTo>
                    <a:pt x="19" y="90"/>
                  </a:lnTo>
                  <a:lnTo>
                    <a:pt x="6" y="90"/>
                  </a:lnTo>
                  <a:lnTo>
                    <a:pt x="6" y="84"/>
                  </a:lnTo>
                  <a:lnTo>
                    <a:pt x="11" y="84"/>
                  </a:lnTo>
                  <a:lnTo>
                    <a:pt x="19" y="84"/>
                  </a:lnTo>
                  <a:lnTo>
                    <a:pt x="19" y="79"/>
                  </a:lnTo>
                  <a:lnTo>
                    <a:pt x="19" y="71"/>
                  </a:lnTo>
                  <a:lnTo>
                    <a:pt x="11" y="71"/>
                  </a:lnTo>
                  <a:lnTo>
                    <a:pt x="19" y="71"/>
                  </a:lnTo>
                  <a:lnTo>
                    <a:pt x="25" y="71"/>
                  </a:lnTo>
                  <a:lnTo>
                    <a:pt x="31" y="71"/>
                  </a:lnTo>
                  <a:lnTo>
                    <a:pt x="31" y="65"/>
                  </a:lnTo>
                  <a:lnTo>
                    <a:pt x="31" y="60"/>
                  </a:lnTo>
                  <a:lnTo>
                    <a:pt x="25" y="60"/>
                  </a:lnTo>
                  <a:lnTo>
                    <a:pt x="25" y="52"/>
                  </a:lnTo>
                  <a:lnTo>
                    <a:pt x="25" y="46"/>
                  </a:lnTo>
                  <a:lnTo>
                    <a:pt x="19" y="52"/>
                  </a:lnTo>
                  <a:lnTo>
                    <a:pt x="11" y="46"/>
                  </a:lnTo>
                  <a:lnTo>
                    <a:pt x="11" y="52"/>
                  </a:lnTo>
                  <a:lnTo>
                    <a:pt x="6" y="52"/>
                  </a:lnTo>
                  <a:lnTo>
                    <a:pt x="11" y="46"/>
                  </a:lnTo>
                  <a:lnTo>
                    <a:pt x="11" y="38"/>
                  </a:lnTo>
                  <a:lnTo>
                    <a:pt x="11" y="33"/>
                  </a:lnTo>
                  <a:lnTo>
                    <a:pt x="6" y="33"/>
                  </a:lnTo>
                  <a:lnTo>
                    <a:pt x="6" y="38"/>
                  </a:lnTo>
                  <a:lnTo>
                    <a:pt x="6" y="33"/>
                  </a:lnTo>
                  <a:lnTo>
                    <a:pt x="6" y="27"/>
                  </a:lnTo>
                  <a:lnTo>
                    <a:pt x="0" y="27"/>
                  </a:lnTo>
                  <a:lnTo>
                    <a:pt x="6" y="19"/>
                  </a:lnTo>
                  <a:lnTo>
                    <a:pt x="6" y="14"/>
                  </a:lnTo>
                  <a:lnTo>
                    <a:pt x="11" y="14"/>
                  </a:lnTo>
                  <a:lnTo>
                    <a:pt x="6" y="8"/>
                  </a:lnTo>
                  <a:lnTo>
                    <a:pt x="11" y="8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1" y="8"/>
                  </a:lnTo>
                  <a:lnTo>
                    <a:pt x="19" y="8"/>
                  </a:lnTo>
                  <a:lnTo>
                    <a:pt x="19" y="14"/>
                  </a:lnTo>
                  <a:lnTo>
                    <a:pt x="25" y="14"/>
                  </a:lnTo>
                  <a:lnTo>
                    <a:pt x="31" y="14"/>
                  </a:lnTo>
                  <a:lnTo>
                    <a:pt x="38" y="14"/>
                  </a:lnTo>
                  <a:lnTo>
                    <a:pt x="38" y="19"/>
                  </a:lnTo>
                  <a:lnTo>
                    <a:pt x="38" y="27"/>
                  </a:lnTo>
                  <a:lnTo>
                    <a:pt x="31" y="27"/>
                  </a:lnTo>
                  <a:lnTo>
                    <a:pt x="31" y="33"/>
                  </a:lnTo>
                  <a:lnTo>
                    <a:pt x="25" y="33"/>
                  </a:lnTo>
                  <a:lnTo>
                    <a:pt x="19" y="33"/>
                  </a:lnTo>
                  <a:lnTo>
                    <a:pt x="25" y="33"/>
                  </a:lnTo>
                  <a:lnTo>
                    <a:pt x="31" y="33"/>
                  </a:lnTo>
                  <a:lnTo>
                    <a:pt x="38" y="38"/>
                  </a:lnTo>
                  <a:lnTo>
                    <a:pt x="44" y="38"/>
                  </a:lnTo>
                  <a:lnTo>
                    <a:pt x="44" y="46"/>
                  </a:lnTo>
                  <a:lnTo>
                    <a:pt x="44" y="52"/>
                  </a:lnTo>
                  <a:lnTo>
                    <a:pt x="52" y="52"/>
                  </a:lnTo>
                  <a:lnTo>
                    <a:pt x="52" y="60"/>
                  </a:lnTo>
                  <a:lnTo>
                    <a:pt x="57" y="60"/>
                  </a:lnTo>
                  <a:lnTo>
                    <a:pt x="57" y="65"/>
                  </a:lnTo>
                </a:path>
              </a:pathLst>
            </a:custGeom>
            <a:solidFill>
              <a:srgbClr val="dd9bab">
                <a:alpha val="50000"/>
              </a:srgbClr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399960" y="2301840"/>
              <a:ext cx="8155080" cy="3944880"/>
              <a:chOff x="399960" y="2301840"/>
              <a:chExt cx="8155080" cy="3944880"/>
            </a:xfrm>
          </p:grpSpPr>
          <p:sp>
            <p:nvSpPr>
              <p:cNvPr id="91" name=""/>
              <p:cNvSpPr/>
              <p:nvPr/>
            </p:nvSpPr>
            <p:spPr>
              <a:xfrm>
                <a:off x="1668240" y="2474640"/>
                <a:ext cx="408240" cy="223920"/>
              </a:xfrm>
              <a:custGeom>
                <a:avLst/>
                <a:gdLst/>
                <a:ahLst/>
                <a:rect l="l" t="t" r="r" b="b"/>
                <a:pathLst>
                  <a:path w="257" h="141">
                    <a:moveTo>
                      <a:pt x="7" y="0"/>
                    </a:moveTo>
                    <a:lnTo>
                      <a:pt x="0" y="9"/>
                    </a:lnTo>
                    <a:lnTo>
                      <a:pt x="0" y="22"/>
                    </a:lnTo>
                    <a:lnTo>
                      <a:pt x="17" y="39"/>
                    </a:lnTo>
                    <a:lnTo>
                      <a:pt x="25" y="35"/>
                    </a:lnTo>
                    <a:lnTo>
                      <a:pt x="33" y="41"/>
                    </a:lnTo>
                    <a:lnTo>
                      <a:pt x="45" y="43"/>
                    </a:lnTo>
                    <a:lnTo>
                      <a:pt x="48" y="34"/>
                    </a:lnTo>
                    <a:lnTo>
                      <a:pt x="76" y="35"/>
                    </a:lnTo>
                    <a:lnTo>
                      <a:pt x="78" y="43"/>
                    </a:lnTo>
                    <a:lnTo>
                      <a:pt x="90" y="47"/>
                    </a:lnTo>
                    <a:lnTo>
                      <a:pt x="111" y="45"/>
                    </a:lnTo>
                    <a:lnTo>
                      <a:pt x="118" y="52"/>
                    </a:lnTo>
                    <a:lnTo>
                      <a:pt x="126" y="54"/>
                    </a:lnTo>
                    <a:lnTo>
                      <a:pt x="136" y="69"/>
                    </a:lnTo>
                    <a:lnTo>
                      <a:pt x="136" y="84"/>
                    </a:lnTo>
                    <a:lnTo>
                      <a:pt x="130" y="86"/>
                    </a:lnTo>
                    <a:lnTo>
                      <a:pt x="131" y="93"/>
                    </a:lnTo>
                    <a:lnTo>
                      <a:pt x="123" y="103"/>
                    </a:lnTo>
                    <a:lnTo>
                      <a:pt x="123" y="116"/>
                    </a:lnTo>
                    <a:lnTo>
                      <a:pt x="138" y="116"/>
                    </a:lnTo>
                    <a:lnTo>
                      <a:pt x="148" y="112"/>
                    </a:lnTo>
                    <a:lnTo>
                      <a:pt x="153" y="106"/>
                    </a:lnTo>
                    <a:lnTo>
                      <a:pt x="156" y="112"/>
                    </a:lnTo>
                    <a:lnTo>
                      <a:pt x="166" y="108"/>
                    </a:lnTo>
                    <a:lnTo>
                      <a:pt x="186" y="116"/>
                    </a:lnTo>
                    <a:lnTo>
                      <a:pt x="198" y="129"/>
                    </a:lnTo>
                    <a:lnTo>
                      <a:pt x="203" y="129"/>
                    </a:lnTo>
                    <a:lnTo>
                      <a:pt x="203" y="136"/>
                    </a:lnTo>
                    <a:lnTo>
                      <a:pt x="216" y="140"/>
                    </a:lnTo>
                    <a:lnTo>
                      <a:pt x="233" y="140"/>
                    </a:lnTo>
                    <a:lnTo>
                      <a:pt x="221" y="134"/>
                    </a:lnTo>
                    <a:lnTo>
                      <a:pt x="226" y="127"/>
                    </a:lnTo>
                    <a:lnTo>
                      <a:pt x="238" y="134"/>
                    </a:lnTo>
                    <a:lnTo>
                      <a:pt x="249" y="134"/>
                    </a:lnTo>
                    <a:lnTo>
                      <a:pt x="251" y="125"/>
                    </a:lnTo>
                    <a:lnTo>
                      <a:pt x="239" y="116"/>
                    </a:lnTo>
                    <a:lnTo>
                      <a:pt x="231" y="116"/>
                    </a:lnTo>
                    <a:lnTo>
                      <a:pt x="216" y="103"/>
                    </a:lnTo>
                    <a:lnTo>
                      <a:pt x="231" y="103"/>
                    </a:lnTo>
                    <a:lnTo>
                      <a:pt x="239" y="112"/>
                    </a:lnTo>
                    <a:lnTo>
                      <a:pt x="256" y="112"/>
                    </a:lnTo>
                    <a:lnTo>
                      <a:pt x="251" y="101"/>
                    </a:lnTo>
                    <a:lnTo>
                      <a:pt x="238" y="88"/>
                    </a:lnTo>
                    <a:lnTo>
                      <a:pt x="226" y="86"/>
                    </a:lnTo>
                    <a:lnTo>
                      <a:pt x="209" y="75"/>
                    </a:lnTo>
                    <a:lnTo>
                      <a:pt x="191" y="71"/>
                    </a:lnTo>
                    <a:lnTo>
                      <a:pt x="173" y="63"/>
                    </a:lnTo>
                    <a:lnTo>
                      <a:pt x="161" y="47"/>
                    </a:lnTo>
                    <a:lnTo>
                      <a:pt x="153" y="22"/>
                    </a:lnTo>
                    <a:lnTo>
                      <a:pt x="138" y="22"/>
                    </a:lnTo>
                    <a:lnTo>
                      <a:pt x="136" y="19"/>
                    </a:lnTo>
                    <a:lnTo>
                      <a:pt x="126" y="21"/>
                    </a:lnTo>
                    <a:lnTo>
                      <a:pt x="115" y="13"/>
                    </a:lnTo>
                    <a:lnTo>
                      <a:pt x="95" y="7"/>
                    </a:lnTo>
                    <a:lnTo>
                      <a:pt x="85" y="13"/>
                    </a:lnTo>
                    <a:lnTo>
                      <a:pt x="65" y="7"/>
                    </a:lnTo>
                    <a:lnTo>
                      <a:pt x="52" y="7"/>
                    </a:lnTo>
                    <a:lnTo>
                      <a:pt x="48" y="2"/>
                    </a:lnTo>
                    <a:lnTo>
                      <a:pt x="40" y="0"/>
                    </a:lnTo>
                    <a:lnTo>
                      <a:pt x="33" y="2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dd9bab">
                  <a:alpha val="50000"/>
                </a:srgbClr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179440" y="3957480"/>
                <a:ext cx="176400" cy="71280"/>
              </a:xfrm>
              <a:custGeom>
                <a:avLst/>
                <a:gdLst/>
                <a:ahLst/>
                <a:rect l="l" t="t" r="r" b="b"/>
                <a:pathLst>
                  <a:path w="111" h="45">
                    <a:moveTo>
                      <a:pt x="0" y="35"/>
                    </a:moveTo>
                    <a:lnTo>
                      <a:pt x="9" y="36"/>
                    </a:lnTo>
                    <a:lnTo>
                      <a:pt x="31" y="35"/>
                    </a:lnTo>
                    <a:lnTo>
                      <a:pt x="44" y="41"/>
                    </a:lnTo>
                    <a:lnTo>
                      <a:pt x="55" y="44"/>
                    </a:lnTo>
                    <a:lnTo>
                      <a:pt x="64" y="35"/>
                    </a:lnTo>
                    <a:lnTo>
                      <a:pt x="60" y="30"/>
                    </a:lnTo>
                    <a:lnTo>
                      <a:pt x="66" y="29"/>
                    </a:lnTo>
                    <a:lnTo>
                      <a:pt x="82" y="35"/>
                    </a:lnTo>
                    <a:lnTo>
                      <a:pt x="93" y="35"/>
                    </a:lnTo>
                    <a:lnTo>
                      <a:pt x="93" y="29"/>
                    </a:lnTo>
                    <a:lnTo>
                      <a:pt x="99" y="29"/>
                    </a:lnTo>
                    <a:lnTo>
                      <a:pt x="110" y="23"/>
                    </a:lnTo>
                    <a:lnTo>
                      <a:pt x="101" y="23"/>
                    </a:lnTo>
                    <a:lnTo>
                      <a:pt x="101" y="14"/>
                    </a:lnTo>
                    <a:lnTo>
                      <a:pt x="101" y="6"/>
                    </a:lnTo>
                    <a:lnTo>
                      <a:pt x="88" y="5"/>
                    </a:lnTo>
                    <a:lnTo>
                      <a:pt x="77" y="6"/>
                    </a:lnTo>
                    <a:lnTo>
                      <a:pt x="64" y="6"/>
                    </a:lnTo>
                    <a:lnTo>
                      <a:pt x="50" y="5"/>
                    </a:lnTo>
                    <a:lnTo>
                      <a:pt x="38" y="0"/>
                    </a:lnTo>
                    <a:lnTo>
                      <a:pt x="31" y="5"/>
                    </a:lnTo>
                    <a:lnTo>
                      <a:pt x="31" y="14"/>
                    </a:lnTo>
                    <a:lnTo>
                      <a:pt x="20" y="14"/>
                    </a:lnTo>
                    <a:lnTo>
                      <a:pt x="16" y="23"/>
                    </a:lnTo>
                    <a:lnTo>
                      <a:pt x="9" y="26"/>
                    </a:lnTo>
                    <a:lnTo>
                      <a:pt x="0" y="35"/>
                    </a:lnTo>
                  </a:path>
                </a:pathLst>
              </a:custGeom>
              <a:solidFill>
                <a:srgbClr val="dd9bab">
                  <a:alpha val="50000"/>
                </a:srgbClr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" name=""/>
              <p:cNvGrpSpPr/>
              <p:nvPr/>
            </p:nvGrpSpPr>
            <p:grpSpPr>
              <a:xfrm>
                <a:off x="399960" y="2301840"/>
                <a:ext cx="8155080" cy="3944880"/>
                <a:chOff x="399960" y="2301840"/>
                <a:chExt cx="8155080" cy="3944880"/>
              </a:xfrm>
            </p:grpSpPr>
            <p:grpSp>
              <p:nvGrpSpPr>
                <p:cNvPr id="94" name=""/>
                <p:cNvGrpSpPr/>
                <p:nvPr/>
              </p:nvGrpSpPr>
              <p:grpSpPr>
                <a:xfrm>
                  <a:off x="6957720" y="2890800"/>
                  <a:ext cx="1597320" cy="2836800"/>
                  <a:chOff x="6957720" y="2890800"/>
                  <a:chExt cx="1597320" cy="2836800"/>
                </a:xfrm>
              </p:grpSpPr>
              <p:grpSp>
                <p:nvGrpSpPr>
                  <p:cNvPr id="95" name=""/>
                  <p:cNvGrpSpPr/>
                  <p:nvPr/>
                </p:nvGrpSpPr>
                <p:grpSpPr>
                  <a:xfrm>
                    <a:off x="7215120" y="3186000"/>
                    <a:ext cx="341280" cy="830160"/>
                    <a:chOff x="7215120" y="3186000"/>
                    <a:chExt cx="341280" cy="830160"/>
                  </a:xfrm>
                </p:grpSpPr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7215120" y="3954240"/>
                      <a:ext cx="6336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9">
                          <a:moveTo>
                            <a:pt x="0" y="29"/>
                          </a:moveTo>
                          <a:lnTo>
                            <a:pt x="7" y="38"/>
                          </a:lnTo>
                          <a:lnTo>
                            <a:pt x="16" y="37"/>
                          </a:lnTo>
                          <a:lnTo>
                            <a:pt x="29" y="38"/>
                          </a:lnTo>
                          <a:lnTo>
                            <a:pt x="38" y="38"/>
                          </a:lnTo>
                          <a:lnTo>
                            <a:pt x="39" y="26"/>
                          </a:lnTo>
                          <a:lnTo>
                            <a:pt x="35" y="16"/>
                          </a:lnTo>
                          <a:lnTo>
                            <a:pt x="30" y="6"/>
                          </a:lnTo>
                          <a:lnTo>
                            <a:pt x="23" y="6"/>
                          </a:lnTo>
                          <a:lnTo>
                            <a:pt x="20" y="0"/>
                          </a:lnTo>
                          <a:lnTo>
                            <a:pt x="10" y="0"/>
                          </a:lnTo>
                          <a:lnTo>
                            <a:pt x="10" y="12"/>
                          </a:lnTo>
                          <a:lnTo>
                            <a:pt x="0" y="29"/>
                          </a:lnTo>
                        </a:path>
                      </a:pathLst>
                    </a:custGeom>
                    <a:solidFill>
                      <a:srgbClr val="dd9bab">
                        <a:alpha val="50000"/>
                      </a:srgbClr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7449840" y="3801960"/>
                      <a:ext cx="61920" cy="8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" h="53">
                          <a:moveTo>
                            <a:pt x="8" y="0"/>
                          </a:moveTo>
                          <a:lnTo>
                            <a:pt x="22" y="3"/>
                          </a:lnTo>
                          <a:lnTo>
                            <a:pt x="31" y="16"/>
                          </a:lnTo>
                          <a:lnTo>
                            <a:pt x="38" y="25"/>
                          </a:lnTo>
                          <a:lnTo>
                            <a:pt x="33" y="32"/>
                          </a:lnTo>
                          <a:lnTo>
                            <a:pt x="38" y="38"/>
                          </a:lnTo>
                          <a:lnTo>
                            <a:pt x="34" y="47"/>
                          </a:lnTo>
                          <a:lnTo>
                            <a:pt x="29" y="52"/>
                          </a:lnTo>
                          <a:lnTo>
                            <a:pt x="17" y="52"/>
                          </a:lnTo>
                          <a:lnTo>
                            <a:pt x="9" y="52"/>
                          </a:lnTo>
                          <a:lnTo>
                            <a:pt x="5" y="46"/>
                          </a:lnTo>
                          <a:lnTo>
                            <a:pt x="0" y="36"/>
                          </a:lnTo>
                          <a:lnTo>
                            <a:pt x="0" y="32"/>
                          </a:lnTo>
                          <a:lnTo>
                            <a:pt x="0" y="19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dd9bab">
                        <a:alpha val="50000"/>
                      </a:srgbClr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7426080" y="3186000"/>
                      <a:ext cx="13032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2" h="47">
                          <a:moveTo>
                            <a:pt x="12" y="0"/>
                          </a:moveTo>
                          <a:lnTo>
                            <a:pt x="23" y="6"/>
                          </a:lnTo>
                          <a:lnTo>
                            <a:pt x="33" y="5"/>
                          </a:lnTo>
                          <a:lnTo>
                            <a:pt x="50" y="6"/>
                          </a:lnTo>
                          <a:lnTo>
                            <a:pt x="60" y="6"/>
                          </a:lnTo>
                          <a:lnTo>
                            <a:pt x="66" y="11"/>
                          </a:lnTo>
                          <a:lnTo>
                            <a:pt x="75" y="20"/>
                          </a:lnTo>
                          <a:lnTo>
                            <a:pt x="81" y="23"/>
                          </a:lnTo>
                          <a:lnTo>
                            <a:pt x="62" y="28"/>
                          </a:lnTo>
                          <a:lnTo>
                            <a:pt x="56" y="32"/>
                          </a:lnTo>
                          <a:lnTo>
                            <a:pt x="62" y="40"/>
                          </a:lnTo>
                          <a:lnTo>
                            <a:pt x="62" y="46"/>
                          </a:lnTo>
                          <a:lnTo>
                            <a:pt x="45" y="40"/>
                          </a:lnTo>
                          <a:lnTo>
                            <a:pt x="32" y="37"/>
                          </a:lnTo>
                          <a:lnTo>
                            <a:pt x="23" y="37"/>
                          </a:lnTo>
                          <a:lnTo>
                            <a:pt x="23" y="46"/>
                          </a:lnTo>
                          <a:lnTo>
                            <a:pt x="12" y="46"/>
                          </a:lnTo>
                          <a:lnTo>
                            <a:pt x="11" y="40"/>
                          </a:lnTo>
                          <a:lnTo>
                            <a:pt x="8" y="28"/>
                          </a:lnTo>
                          <a:lnTo>
                            <a:pt x="0" y="26"/>
                          </a:lnTo>
                          <a:lnTo>
                            <a:pt x="8" y="20"/>
                          </a:lnTo>
                          <a:lnTo>
                            <a:pt x="15" y="17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dd9bab">
                        <a:alpha val="50000"/>
                      </a:srgbClr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" name=""/>
                  <p:cNvSpPr/>
                  <p:nvPr/>
                </p:nvSpPr>
                <p:spPr>
                  <a:xfrm>
                    <a:off x="7554600" y="4922640"/>
                    <a:ext cx="1000440" cy="804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0" h="507">
                        <a:moveTo>
                          <a:pt x="452" y="0"/>
                        </a:moveTo>
                        <a:lnTo>
                          <a:pt x="485" y="0"/>
                        </a:lnTo>
                        <a:lnTo>
                          <a:pt x="485" y="40"/>
                        </a:lnTo>
                        <a:lnTo>
                          <a:pt x="498" y="55"/>
                        </a:lnTo>
                        <a:lnTo>
                          <a:pt x="504" y="61"/>
                        </a:lnTo>
                        <a:lnTo>
                          <a:pt x="509" y="61"/>
                        </a:lnTo>
                        <a:lnTo>
                          <a:pt x="514" y="67"/>
                        </a:lnTo>
                        <a:lnTo>
                          <a:pt x="517" y="109"/>
                        </a:lnTo>
                        <a:lnTo>
                          <a:pt x="534" y="136"/>
                        </a:lnTo>
                        <a:lnTo>
                          <a:pt x="564" y="172"/>
                        </a:lnTo>
                        <a:lnTo>
                          <a:pt x="564" y="180"/>
                        </a:lnTo>
                        <a:lnTo>
                          <a:pt x="595" y="215"/>
                        </a:lnTo>
                        <a:lnTo>
                          <a:pt x="595" y="217"/>
                        </a:lnTo>
                        <a:lnTo>
                          <a:pt x="626" y="243"/>
                        </a:lnTo>
                        <a:lnTo>
                          <a:pt x="629" y="291"/>
                        </a:lnTo>
                        <a:lnTo>
                          <a:pt x="626" y="332"/>
                        </a:lnTo>
                        <a:lnTo>
                          <a:pt x="614" y="352"/>
                        </a:lnTo>
                        <a:lnTo>
                          <a:pt x="603" y="362"/>
                        </a:lnTo>
                        <a:lnTo>
                          <a:pt x="598" y="385"/>
                        </a:lnTo>
                        <a:lnTo>
                          <a:pt x="588" y="403"/>
                        </a:lnTo>
                        <a:lnTo>
                          <a:pt x="579" y="407"/>
                        </a:lnTo>
                        <a:lnTo>
                          <a:pt x="583" y="417"/>
                        </a:lnTo>
                        <a:lnTo>
                          <a:pt x="567" y="429"/>
                        </a:lnTo>
                        <a:lnTo>
                          <a:pt x="564" y="453"/>
                        </a:lnTo>
                        <a:lnTo>
                          <a:pt x="560" y="472"/>
                        </a:lnTo>
                        <a:lnTo>
                          <a:pt x="552" y="474"/>
                        </a:lnTo>
                        <a:lnTo>
                          <a:pt x="548" y="484"/>
                        </a:lnTo>
                        <a:lnTo>
                          <a:pt x="541" y="494"/>
                        </a:lnTo>
                        <a:lnTo>
                          <a:pt x="529" y="494"/>
                        </a:lnTo>
                        <a:lnTo>
                          <a:pt x="517" y="500"/>
                        </a:lnTo>
                        <a:lnTo>
                          <a:pt x="505" y="506"/>
                        </a:lnTo>
                        <a:lnTo>
                          <a:pt x="486" y="488"/>
                        </a:lnTo>
                        <a:lnTo>
                          <a:pt x="471" y="494"/>
                        </a:lnTo>
                        <a:lnTo>
                          <a:pt x="464" y="494"/>
                        </a:lnTo>
                        <a:lnTo>
                          <a:pt x="437" y="498"/>
                        </a:lnTo>
                        <a:lnTo>
                          <a:pt x="423" y="484"/>
                        </a:lnTo>
                        <a:lnTo>
                          <a:pt x="409" y="463"/>
                        </a:lnTo>
                        <a:lnTo>
                          <a:pt x="404" y="468"/>
                        </a:lnTo>
                        <a:lnTo>
                          <a:pt x="397" y="451"/>
                        </a:lnTo>
                        <a:lnTo>
                          <a:pt x="392" y="441"/>
                        </a:lnTo>
                        <a:lnTo>
                          <a:pt x="390" y="437"/>
                        </a:lnTo>
                        <a:lnTo>
                          <a:pt x="390" y="417"/>
                        </a:lnTo>
                        <a:lnTo>
                          <a:pt x="390" y="403"/>
                        </a:lnTo>
                        <a:lnTo>
                          <a:pt x="385" y="397"/>
                        </a:lnTo>
                        <a:lnTo>
                          <a:pt x="371" y="399"/>
                        </a:lnTo>
                        <a:lnTo>
                          <a:pt x="363" y="403"/>
                        </a:lnTo>
                        <a:lnTo>
                          <a:pt x="351" y="403"/>
                        </a:lnTo>
                        <a:lnTo>
                          <a:pt x="347" y="403"/>
                        </a:lnTo>
                        <a:lnTo>
                          <a:pt x="340" y="403"/>
                        </a:lnTo>
                        <a:lnTo>
                          <a:pt x="330" y="391"/>
                        </a:lnTo>
                        <a:lnTo>
                          <a:pt x="320" y="376"/>
                        </a:lnTo>
                        <a:lnTo>
                          <a:pt x="318" y="376"/>
                        </a:lnTo>
                        <a:lnTo>
                          <a:pt x="304" y="376"/>
                        </a:lnTo>
                        <a:lnTo>
                          <a:pt x="301" y="370"/>
                        </a:lnTo>
                        <a:lnTo>
                          <a:pt x="289" y="376"/>
                        </a:lnTo>
                        <a:lnTo>
                          <a:pt x="282" y="376"/>
                        </a:lnTo>
                        <a:lnTo>
                          <a:pt x="266" y="376"/>
                        </a:lnTo>
                        <a:lnTo>
                          <a:pt x="261" y="370"/>
                        </a:lnTo>
                        <a:lnTo>
                          <a:pt x="256" y="376"/>
                        </a:lnTo>
                        <a:lnTo>
                          <a:pt x="237" y="378"/>
                        </a:lnTo>
                        <a:lnTo>
                          <a:pt x="235" y="376"/>
                        </a:lnTo>
                        <a:lnTo>
                          <a:pt x="227" y="385"/>
                        </a:lnTo>
                        <a:lnTo>
                          <a:pt x="217" y="397"/>
                        </a:lnTo>
                        <a:lnTo>
                          <a:pt x="206" y="397"/>
                        </a:lnTo>
                        <a:lnTo>
                          <a:pt x="196" y="407"/>
                        </a:lnTo>
                        <a:lnTo>
                          <a:pt x="180" y="407"/>
                        </a:lnTo>
                        <a:lnTo>
                          <a:pt x="165" y="407"/>
                        </a:lnTo>
                        <a:lnTo>
                          <a:pt x="151" y="417"/>
                        </a:lnTo>
                        <a:lnTo>
                          <a:pt x="144" y="425"/>
                        </a:lnTo>
                        <a:lnTo>
                          <a:pt x="137" y="423"/>
                        </a:lnTo>
                        <a:lnTo>
                          <a:pt x="134" y="431"/>
                        </a:lnTo>
                        <a:lnTo>
                          <a:pt x="124" y="433"/>
                        </a:lnTo>
                        <a:lnTo>
                          <a:pt x="115" y="441"/>
                        </a:lnTo>
                        <a:lnTo>
                          <a:pt x="84" y="441"/>
                        </a:lnTo>
                        <a:lnTo>
                          <a:pt x="72" y="429"/>
                        </a:lnTo>
                        <a:lnTo>
                          <a:pt x="70" y="423"/>
                        </a:lnTo>
                        <a:lnTo>
                          <a:pt x="69" y="429"/>
                        </a:lnTo>
                        <a:lnTo>
                          <a:pt x="62" y="417"/>
                        </a:lnTo>
                        <a:lnTo>
                          <a:pt x="64" y="393"/>
                        </a:lnTo>
                        <a:lnTo>
                          <a:pt x="69" y="376"/>
                        </a:lnTo>
                        <a:lnTo>
                          <a:pt x="62" y="362"/>
                        </a:lnTo>
                        <a:lnTo>
                          <a:pt x="57" y="352"/>
                        </a:lnTo>
                        <a:lnTo>
                          <a:pt x="57" y="338"/>
                        </a:lnTo>
                        <a:lnTo>
                          <a:pt x="45" y="328"/>
                        </a:lnTo>
                        <a:lnTo>
                          <a:pt x="41" y="328"/>
                        </a:lnTo>
                        <a:lnTo>
                          <a:pt x="40" y="322"/>
                        </a:lnTo>
                        <a:lnTo>
                          <a:pt x="27" y="304"/>
                        </a:lnTo>
                        <a:lnTo>
                          <a:pt x="10" y="261"/>
                        </a:lnTo>
                        <a:lnTo>
                          <a:pt x="7" y="229"/>
                        </a:lnTo>
                        <a:lnTo>
                          <a:pt x="7" y="215"/>
                        </a:lnTo>
                        <a:lnTo>
                          <a:pt x="0" y="206"/>
                        </a:lnTo>
                        <a:lnTo>
                          <a:pt x="2" y="188"/>
                        </a:lnTo>
                        <a:lnTo>
                          <a:pt x="7" y="182"/>
                        </a:lnTo>
                        <a:lnTo>
                          <a:pt x="27" y="162"/>
                        </a:lnTo>
                        <a:lnTo>
                          <a:pt x="46" y="162"/>
                        </a:lnTo>
                        <a:lnTo>
                          <a:pt x="53" y="166"/>
                        </a:lnTo>
                        <a:lnTo>
                          <a:pt x="77" y="166"/>
                        </a:lnTo>
                        <a:lnTo>
                          <a:pt x="81" y="162"/>
                        </a:lnTo>
                        <a:lnTo>
                          <a:pt x="84" y="162"/>
                        </a:lnTo>
                        <a:lnTo>
                          <a:pt x="95" y="156"/>
                        </a:lnTo>
                        <a:lnTo>
                          <a:pt x="100" y="156"/>
                        </a:lnTo>
                        <a:lnTo>
                          <a:pt x="107" y="154"/>
                        </a:lnTo>
                        <a:lnTo>
                          <a:pt x="103" y="146"/>
                        </a:lnTo>
                        <a:lnTo>
                          <a:pt x="108" y="134"/>
                        </a:lnTo>
                        <a:lnTo>
                          <a:pt x="115" y="128"/>
                        </a:lnTo>
                        <a:lnTo>
                          <a:pt x="112" y="121"/>
                        </a:lnTo>
                        <a:lnTo>
                          <a:pt x="115" y="115"/>
                        </a:lnTo>
                        <a:lnTo>
                          <a:pt x="112" y="113"/>
                        </a:lnTo>
                        <a:lnTo>
                          <a:pt x="124" y="101"/>
                        </a:lnTo>
                        <a:lnTo>
                          <a:pt x="139" y="99"/>
                        </a:lnTo>
                        <a:lnTo>
                          <a:pt x="156" y="75"/>
                        </a:lnTo>
                        <a:lnTo>
                          <a:pt x="177" y="55"/>
                        </a:lnTo>
                        <a:lnTo>
                          <a:pt x="187" y="55"/>
                        </a:lnTo>
                        <a:lnTo>
                          <a:pt x="192" y="47"/>
                        </a:lnTo>
                        <a:lnTo>
                          <a:pt x="201" y="47"/>
                        </a:lnTo>
                        <a:lnTo>
                          <a:pt x="218" y="65"/>
                        </a:lnTo>
                        <a:lnTo>
                          <a:pt x="225" y="67"/>
                        </a:lnTo>
                        <a:lnTo>
                          <a:pt x="230" y="61"/>
                        </a:lnTo>
                        <a:lnTo>
                          <a:pt x="239" y="47"/>
                        </a:lnTo>
                        <a:lnTo>
                          <a:pt x="247" y="45"/>
                        </a:lnTo>
                        <a:lnTo>
                          <a:pt x="256" y="28"/>
                        </a:lnTo>
                        <a:lnTo>
                          <a:pt x="263" y="28"/>
                        </a:lnTo>
                        <a:lnTo>
                          <a:pt x="273" y="24"/>
                        </a:lnTo>
                        <a:lnTo>
                          <a:pt x="282" y="12"/>
                        </a:lnTo>
                        <a:lnTo>
                          <a:pt x="289" y="12"/>
                        </a:lnTo>
                        <a:lnTo>
                          <a:pt x="299" y="6"/>
                        </a:lnTo>
                        <a:lnTo>
                          <a:pt x="309" y="6"/>
                        </a:lnTo>
                        <a:lnTo>
                          <a:pt x="323" y="6"/>
                        </a:lnTo>
                        <a:lnTo>
                          <a:pt x="340" y="6"/>
                        </a:lnTo>
                        <a:lnTo>
                          <a:pt x="351" y="20"/>
                        </a:lnTo>
                        <a:lnTo>
                          <a:pt x="354" y="26"/>
                        </a:lnTo>
                        <a:lnTo>
                          <a:pt x="356" y="28"/>
                        </a:lnTo>
                        <a:lnTo>
                          <a:pt x="359" y="38"/>
                        </a:lnTo>
                        <a:lnTo>
                          <a:pt x="356" y="40"/>
                        </a:lnTo>
                        <a:lnTo>
                          <a:pt x="356" y="55"/>
                        </a:lnTo>
                        <a:lnTo>
                          <a:pt x="354" y="61"/>
                        </a:lnTo>
                        <a:lnTo>
                          <a:pt x="382" y="83"/>
                        </a:lnTo>
                        <a:lnTo>
                          <a:pt x="390" y="93"/>
                        </a:lnTo>
                        <a:lnTo>
                          <a:pt x="402" y="95"/>
                        </a:lnTo>
                        <a:lnTo>
                          <a:pt x="411" y="101"/>
                        </a:lnTo>
                        <a:lnTo>
                          <a:pt x="421" y="109"/>
                        </a:lnTo>
                        <a:lnTo>
                          <a:pt x="433" y="99"/>
                        </a:lnTo>
                        <a:lnTo>
                          <a:pt x="440" y="83"/>
                        </a:lnTo>
                        <a:lnTo>
                          <a:pt x="443" y="67"/>
                        </a:lnTo>
                        <a:lnTo>
                          <a:pt x="447" y="38"/>
                        </a:lnTo>
                        <a:lnTo>
                          <a:pt x="452" y="28"/>
                        </a:lnTo>
                        <a:lnTo>
                          <a:pt x="452" y="0"/>
                        </a:lnTo>
                      </a:path>
                    </a:pathLst>
                  </a:custGeom>
                  <a:solidFill>
                    <a:srgbClr val="dd9bab">
                      <a:alpha val="50000"/>
                    </a:srgbClr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7319880" y="4748040"/>
                    <a:ext cx="53820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9" h="53">
                        <a:moveTo>
                          <a:pt x="0" y="0"/>
                        </a:moveTo>
                        <a:lnTo>
                          <a:pt x="24" y="8"/>
                        </a:lnTo>
                        <a:lnTo>
                          <a:pt x="47" y="8"/>
                        </a:lnTo>
                        <a:lnTo>
                          <a:pt x="66" y="8"/>
                        </a:lnTo>
                        <a:lnTo>
                          <a:pt x="79" y="8"/>
                        </a:lnTo>
                        <a:lnTo>
                          <a:pt x="91" y="8"/>
                        </a:lnTo>
                        <a:lnTo>
                          <a:pt x="104" y="13"/>
                        </a:lnTo>
                        <a:lnTo>
                          <a:pt x="114" y="25"/>
                        </a:lnTo>
                        <a:lnTo>
                          <a:pt x="121" y="28"/>
                        </a:lnTo>
                        <a:lnTo>
                          <a:pt x="133" y="28"/>
                        </a:lnTo>
                        <a:lnTo>
                          <a:pt x="150" y="28"/>
                        </a:lnTo>
                        <a:lnTo>
                          <a:pt x="165" y="35"/>
                        </a:lnTo>
                        <a:lnTo>
                          <a:pt x="175" y="39"/>
                        </a:lnTo>
                        <a:lnTo>
                          <a:pt x="182" y="39"/>
                        </a:lnTo>
                        <a:lnTo>
                          <a:pt x="183" y="28"/>
                        </a:lnTo>
                        <a:lnTo>
                          <a:pt x="188" y="25"/>
                        </a:lnTo>
                        <a:lnTo>
                          <a:pt x="212" y="28"/>
                        </a:lnTo>
                        <a:lnTo>
                          <a:pt x="229" y="28"/>
                        </a:lnTo>
                        <a:lnTo>
                          <a:pt x="247" y="28"/>
                        </a:lnTo>
                        <a:lnTo>
                          <a:pt x="259" y="33"/>
                        </a:lnTo>
                        <a:lnTo>
                          <a:pt x="266" y="36"/>
                        </a:lnTo>
                        <a:lnTo>
                          <a:pt x="279" y="35"/>
                        </a:lnTo>
                        <a:lnTo>
                          <a:pt x="289" y="33"/>
                        </a:lnTo>
                        <a:lnTo>
                          <a:pt x="296" y="28"/>
                        </a:lnTo>
                        <a:lnTo>
                          <a:pt x="308" y="28"/>
                        </a:lnTo>
                        <a:lnTo>
                          <a:pt x="320" y="25"/>
                        </a:lnTo>
                        <a:lnTo>
                          <a:pt x="331" y="24"/>
                        </a:lnTo>
                        <a:lnTo>
                          <a:pt x="338" y="24"/>
                        </a:lnTo>
                        <a:lnTo>
                          <a:pt x="335" y="33"/>
                        </a:lnTo>
                        <a:lnTo>
                          <a:pt x="331" y="39"/>
                        </a:lnTo>
                        <a:lnTo>
                          <a:pt x="326" y="43"/>
                        </a:lnTo>
                        <a:lnTo>
                          <a:pt x="320" y="43"/>
                        </a:lnTo>
                        <a:lnTo>
                          <a:pt x="316" y="43"/>
                        </a:lnTo>
                        <a:lnTo>
                          <a:pt x="304" y="46"/>
                        </a:lnTo>
                        <a:lnTo>
                          <a:pt x="298" y="49"/>
                        </a:lnTo>
                        <a:lnTo>
                          <a:pt x="294" y="49"/>
                        </a:lnTo>
                        <a:lnTo>
                          <a:pt x="284" y="47"/>
                        </a:lnTo>
                        <a:lnTo>
                          <a:pt x="277" y="49"/>
                        </a:lnTo>
                        <a:lnTo>
                          <a:pt x="271" y="49"/>
                        </a:lnTo>
                        <a:lnTo>
                          <a:pt x="264" y="49"/>
                        </a:lnTo>
                        <a:lnTo>
                          <a:pt x="259" y="52"/>
                        </a:lnTo>
                        <a:lnTo>
                          <a:pt x="247" y="52"/>
                        </a:lnTo>
                        <a:lnTo>
                          <a:pt x="240" y="49"/>
                        </a:lnTo>
                        <a:lnTo>
                          <a:pt x="230" y="43"/>
                        </a:lnTo>
                        <a:lnTo>
                          <a:pt x="224" y="49"/>
                        </a:lnTo>
                        <a:lnTo>
                          <a:pt x="217" y="52"/>
                        </a:lnTo>
                        <a:lnTo>
                          <a:pt x="210" y="52"/>
                        </a:lnTo>
                        <a:lnTo>
                          <a:pt x="198" y="43"/>
                        </a:lnTo>
                        <a:lnTo>
                          <a:pt x="195" y="46"/>
                        </a:lnTo>
                        <a:lnTo>
                          <a:pt x="187" y="46"/>
                        </a:lnTo>
                        <a:lnTo>
                          <a:pt x="180" y="49"/>
                        </a:lnTo>
                        <a:lnTo>
                          <a:pt x="170" y="49"/>
                        </a:lnTo>
                        <a:lnTo>
                          <a:pt x="158" y="49"/>
                        </a:lnTo>
                        <a:lnTo>
                          <a:pt x="153" y="47"/>
                        </a:lnTo>
                        <a:lnTo>
                          <a:pt x="146" y="43"/>
                        </a:lnTo>
                        <a:lnTo>
                          <a:pt x="135" y="46"/>
                        </a:lnTo>
                        <a:lnTo>
                          <a:pt x="126" y="49"/>
                        </a:lnTo>
                        <a:lnTo>
                          <a:pt x="119" y="49"/>
                        </a:lnTo>
                        <a:lnTo>
                          <a:pt x="104" y="47"/>
                        </a:lnTo>
                        <a:lnTo>
                          <a:pt x="92" y="41"/>
                        </a:lnTo>
                        <a:lnTo>
                          <a:pt x="82" y="41"/>
                        </a:lnTo>
                        <a:lnTo>
                          <a:pt x="61" y="36"/>
                        </a:lnTo>
                        <a:lnTo>
                          <a:pt x="47" y="33"/>
                        </a:lnTo>
                        <a:lnTo>
                          <a:pt x="37" y="33"/>
                        </a:lnTo>
                        <a:lnTo>
                          <a:pt x="24" y="28"/>
                        </a:lnTo>
                        <a:lnTo>
                          <a:pt x="12" y="24"/>
                        </a:lnTo>
                        <a:lnTo>
                          <a:pt x="5" y="24"/>
                        </a:lnTo>
                        <a:lnTo>
                          <a:pt x="0" y="20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d9bab">
                      <a:alpha val="50000"/>
                    </a:srgbClr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7623000" y="4525920"/>
                    <a:ext cx="235080" cy="1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122">
                        <a:moveTo>
                          <a:pt x="38" y="0"/>
                        </a:moveTo>
                        <a:lnTo>
                          <a:pt x="72" y="4"/>
                        </a:lnTo>
                        <a:lnTo>
                          <a:pt x="107" y="4"/>
                        </a:lnTo>
                        <a:lnTo>
                          <a:pt x="125" y="0"/>
                        </a:lnTo>
                        <a:lnTo>
                          <a:pt x="147" y="11"/>
                        </a:lnTo>
                        <a:lnTo>
                          <a:pt x="134" y="15"/>
                        </a:lnTo>
                        <a:lnTo>
                          <a:pt x="125" y="20"/>
                        </a:lnTo>
                        <a:lnTo>
                          <a:pt x="115" y="22"/>
                        </a:lnTo>
                        <a:lnTo>
                          <a:pt x="113" y="28"/>
                        </a:lnTo>
                        <a:lnTo>
                          <a:pt x="113" y="35"/>
                        </a:lnTo>
                        <a:lnTo>
                          <a:pt x="113" y="37"/>
                        </a:lnTo>
                        <a:lnTo>
                          <a:pt x="105" y="40"/>
                        </a:lnTo>
                        <a:lnTo>
                          <a:pt x="96" y="40"/>
                        </a:lnTo>
                        <a:lnTo>
                          <a:pt x="91" y="40"/>
                        </a:lnTo>
                        <a:lnTo>
                          <a:pt x="83" y="40"/>
                        </a:lnTo>
                        <a:lnTo>
                          <a:pt x="78" y="37"/>
                        </a:lnTo>
                        <a:lnTo>
                          <a:pt x="72" y="29"/>
                        </a:lnTo>
                        <a:lnTo>
                          <a:pt x="66" y="22"/>
                        </a:lnTo>
                        <a:lnTo>
                          <a:pt x="51" y="22"/>
                        </a:lnTo>
                        <a:lnTo>
                          <a:pt x="50" y="22"/>
                        </a:lnTo>
                        <a:lnTo>
                          <a:pt x="43" y="37"/>
                        </a:lnTo>
                        <a:lnTo>
                          <a:pt x="45" y="40"/>
                        </a:lnTo>
                        <a:lnTo>
                          <a:pt x="45" y="48"/>
                        </a:lnTo>
                        <a:lnTo>
                          <a:pt x="50" y="53"/>
                        </a:lnTo>
                        <a:lnTo>
                          <a:pt x="56" y="53"/>
                        </a:lnTo>
                        <a:lnTo>
                          <a:pt x="66" y="46"/>
                        </a:lnTo>
                        <a:lnTo>
                          <a:pt x="72" y="46"/>
                        </a:lnTo>
                        <a:lnTo>
                          <a:pt x="77" y="51"/>
                        </a:lnTo>
                        <a:lnTo>
                          <a:pt x="77" y="53"/>
                        </a:lnTo>
                        <a:lnTo>
                          <a:pt x="74" y="61"/>
                        </a:lnTo>
                        <a:lnTo>
                          <a:pt x="72" y="61"/>
                        </a:lnTo>
                        <a:lnTo>
                          <a:pt x="72" y="66"/>
                        </a:lnTo>
                        <a:lnTo>
                          <a:pt x="72" y="73"/>
                        </a:lnTo>
                        <a:lnTo>
                          <a:pt x="74" y="81"/>
                        </a:lnTo>
                        <a:lnTo>
                          <a:pt x="80" y="84"/>
                        </a:lnTo>
                        <a:lnTo>
                          <a:pt x="83" y="84"/>
                        </a:lnTo>
                        <a:lnTo>
                          <a:pt x="83" y="90"/>
                        </a:lnTo>
                        <a:lnTo>
                          <a:pt x="78" y="97"/>
                        </a:lnTo>
                        <a:lnTo>
                          <a:pt x="77" y="103"/>
                        </a:lnTo>
                        <a:lnTo>
                          <a:pt x="74" y="114"/>
                        </a:lnTo>
                        <a:lnTo>
                          <a:pt x="67" y="116"/>
                        </a:lnTo>
                        <a:lnTo>
                          <a:pt x="62" y="116"/>
                        </a:lnTo>
                        <a:lnTo>
                          <a:pt x="58" y="116"/>
                        </a:lnTo>
                        <a:lnTo>
                          <a:pt x="58" y="108"/>
                        </a:lnTo>
                        <a:lnTo>
                          <a:pt x="56" y="95"/>
                        </a:lnTo>
                        <a:lnTo>
                          <a:pt x="50" y="90"/>
                        </a:lnTo>
                        <a:lnTo>
                          <a:pt x="50" y="84"/>
                        </a:lnTo>
                        <a:lnTo>
                          <a:pt x="50" y="77"/>
                        </a:lnTo>
                        <a:lnTo>
                          <a:pt x="43" y="70"/>
                        </a:lnTo>
                        <a:lnTo>
                          <a:pt x="32" y="77"/>
                        </a:lnTo>
                        <a:lnTo>
                          <a:pt x="27" y="70"/>
                        </a:lnTo>
                        <a:lnTo>
                          <a:pt x="21" y="79"/>
                        </a:lnTo>
                        <a:lnTo>
                          <a:pt x="27" y="84"/>
                        </a:lnTo>
                        <a:lnTo>
                          <a:pt x="37" y="84"/>
                        </a:lnTo>
                        <a:lnTo>
                          <a:pt x="38" y="88"/>
                        </a:lnTo>
                        <a:lnTo>
                          <a:pt x="43" y="95"/>
                        </a:lnTo>
                        <a:lnTo>
                          <a:pt x="43" y="101"/>
                        </a:lnTo>
                        <a:lnTo>
                          <a:pt x="38" y="108"/>
                        </a:lnTo>
                        <a:lnTo>
                          <a:pt x="32" y="119"/>
                        </a:lnTo>
                        <a:lnTo>
                          <a:pt x="27" y="121"/>
                        </a:lnTo>
                        <a:lnTo>
                          <a:pt x="27" y="114"/>
                        </a:lnTo>
                        <a:lnTo>
                          <a:pt x="27" y="108"/>
                        </a:lnTo>
                        <a:lnTo>
                          <a:pt x="29" y="101"/>
                        </a:lnTo>
                        <a:lnTo>
                          <a:pt x="21" y="95"/>
                        </a:lnTo>
                        <a:lnTo>
                          <a:pt x="14" y="90"/>
                        </a:lnTo>
                        <a:lnTo>
                          <a:pt x="11" y="84"/>
                        </a:lnTo>
                        <a:lnTo>
                          <a:pt x="0" y="84"/>
                        </a:lnTo>
                        <a:lnTo>
                          <a:pt x="3" y="70"/>
                        </a:lnTo>
                        <a:lnTo>
                          <a:pt x="11" y="64"/>
                        </a:lnTo>
                        <a:lnTo>
                          <a:pt x="16" y="59"/>
                        </a:lnTo>
                        <a:lnTo>
                          <a:pt x="21" y="48"/>
                        </a:lnTo>
                        <a:lnTo>
                          <a:pt x="21" y="39"/>
                        </a:lnTo>
                        <a:lnTo>
                          <a:pt x="21" y="29"/>
                        </a:lnTo>
                        <a:lnTo>
                          <a:pt x="26" y="24"/>
                        </a:lnTo>
                        <a:lnTo>
                          <a:pt x="27" y="22"/>
                        </a:lnTo>
                        <a:lnTo>
                          <a:pt x="21" y="15"/>
                        </a:lnTo>
                        <a:lnTo>
                          <a:pt x="38" y="0"/>
                        </a:lnTo>
                      </a:path>
                    </a:pathLst>
                  </a:custGeom>
                  <a:solidFill>
                    <a:srgbClr val="dd9bab">
                      <a:alpha val="50000"/>
                    </a:srgbClr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7358040" y="4422600"/>
                    <a:ext cx="25848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179">
                        <a:moveTo>
                          <a:pt x="0" y="63"/>
                        </a:moveTo>
                        <a:lnTo>
                          <a:pt x="31" y="33"/>
                        </a:lnTo>
                        <a:lnTo>
                          <a:pt x="52" y="21"/>
                        </a:lnTo>
                        <a:lnTo>
                          <a:pt x="58" y="13"/>
                        </a:lnTo>
                        <a:lnTo>
                          <a:pt x="83" y="0"/>
                        </a:lnTo>
                        <a:lnTo>
                          <a:pt x="100" y="25"/>
                        </a:lnTo>
                        <a:lnTo>
                          <a:pt x="112" y="17"/>
                        </a:lnTo>
                        <a:lnTo>
                          <a:pt x="118" y="11"/>
                        </a:lnTo>
                        <a:lnTo>
                          <a:pt x="130" y="0"/>
                        </a:lnTo>
                        <a:lnTo>
                          <a:pt x="139" y="0"/>
                        </a:lnTo>
                        <a:lnTo>
                          <a:pt x="139" y="13"/>
                        </a:lnTo>
                        <a:lnTo>
                          <a:pt x="139" y="19"/>
                        </a:lnTo>
                        <a:lnTo>
                          <a:pt x="134" y="25"/>
                        </a:lnTo>
                        <a:lnTo>
                          <a:pt x="134" y="33"/>
                        </a:lnTo>
                        <a:lnTo>
                          <a:pt x="151" y="57"/>
                        </a:lnTo>
                        <a:lnTo>
                          <a:pt x="154" y="71"/>
                        </a:lnTo>
                        <a:lnTo>
                          <a:pt x="159" y="71"/>
                        </a:lnTo>
                        <a:lnTo>
                          <a:pt x="162" y="80"/>
                        </a:lnTo>
                        <a:lnTo>
                          <a:pt x="154" y="88"/>
                        </a:lnTo>
                        <a:lnTo>
                          <a:pt x="151" y="82"/>
                        </a:lnTo>
                        <a:lnTo>
                          <a:pt x="139" y="90"/>
                        </a:lnTo>
                        <a:lnTo>
                          <a:pt x="139" y="103"/>
                        </a:lnTo>
                        <a:lnTo>
                          <a:pt x="125" y="115"/>
                        </a:lnTo>
                        <a:lnTo>
                          <a:pt x="125" y="142"/>
                        </a:lnTo>
                        <a:lnTo>
                          <a:pt x="125" y="155"/>
                        </a:lnTo>
                        <a:lnTo>
                          <a:pt x="118" y="165"/>
                        </a:lnTo>
                        <a:lnTo>
                          <a:pt x="112" y="178"/>
                        </a:lnTo>
                        <a:lnTo>
                          <a:pt x="105" y="172"/>
                        </a:lnTo>
                        <a:lnTo>
                          <a:pt x="96" y="168"/>
                        </a:lnTo>
                        <a:lnTo>
                          <a:pt x="87" y="165"/>
                        </a:lnTo>
                        <a:lnTo>
                          <a:pt x="78" y="153"/>
                        </a:lnTo>
                        <a:lnTo>
                          <a:pt x="53" y="153"/>
                        </a:lnTo>
                        <a:lnTo>
                          <a:pt x="34" y="147"/>
                        </a:lnTo>
                        <a:lnTo>
                          <a:pt x="19" y="132"/>
                        </a:lnTo>
                        <a:lnTo>
                          <a:pt x="11" y="122"/>
                        </a:lnTo>
                        <a:lnTo>
                          <a:pt x="5" y="115"/>
                        </a:lnTo>
                        <a:lnTo>
                          <a:pt x="5" y="98"/>
                        </a:lnTo>
                        <a:lnTo>
                          <a:pt x="0" y="63"/>
                        </a:lnTo>
                      </a:path>
                    </a:pathLst>
                  </a:custGeom>
                  <a:solidFill>
                    <a:srgbClr val="dd9bab">
                      <a:alpha val="50000"/>
                    </a:srgbClr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7956360" y="4597200"/>
                    <a:ext cx="519120" cy="258840"/>
                  </a:xfrm>
                  <a:custGeom>
                    <a:avLst/>
                    <a:gdLst/>
                    <a:ahLst/>
                    <a:rect l="l" t="t" r="r" b="b"/>
                    <a:pathLst>
                      <a:path w="327" h="163">
                        <a:moveTo>
                          <a:pt x="0" y="0"/>
                        </a:moveTo>
                        <a:lnTo>
                          <a:pt x="30" y="0"/>
                        </a:lnTo>
                        <a:lnTo>
                          <a:pt x="52" y="2"/>
                        </a:lnTo>
                        <a:lnTo>
                          <a:pt x="62" y="25"/>
                        </a:lnTo>
                        <a:lnTo>
                          <a:pt x="64" y="34"/>
                        </a:lnTo>
                        <a:lnTo>
                          <a:pt x="68" y="40"/>
                        </a:lnTo>
                        <a:lnTo>
                          <a:pt x="76" y="30"/>
                        </a:lnTo>
                        <a:lnTo>
                          <a:pt x="88" y="30"/>
                        </a:lnTo>
                        <a:lnTo>
                          <a:pt x="98" y="40"/>
                        </a:lnTo>
                        <a:lnTo>
                          <a:pt x="100" y="38"/>
                        </a:lnTo>
                        <a:lnTo>
                          <a:pt x="110" y="25"/>
                        </a:lnTo>
                        <a:lnTo>
                          <a:pt x="111" y="25"/>
                        </a:lnTo>
                        <a:lnTo>
                          <a:pt x="122" y="21"/>
                        </a:lnTo>
                        <a:lnTo>
                          <a:pt x="132" y="21"/>
                        </a:lnTo>
                        <a:lnTo>
                          <a:pt x="159" y="30"/>
                        </a:lnTo>
                        <a:lnTo>
                          <a:pt x="174" y="30"/>
                        </a:lnTo>
                        <a:lnTo>
                          <a:pt x="186" y="46"/>
                        </a:lnTo>
                        <a:lnTo>
                          <a:pt x="198" y="46"/>
                        </a:lnTo>
                        <a:lnTo>
                          <a:pt x="209" y="51"/>
                        </a:lnTo>
                        <a:lnTo>
                          <a:pt x="220" y="53"/>
                        </a:lnTo>
                        <a:lnTo>
                          <a:pt x="243" y="63"/>
                        </a:lnTo>
                        <a:lnTo>
                          <a:pt x="253" y="76"/>
                        </a:lnTo>
                        <a:lnTo>
                          <a:pt x="258" y="84"/>
                        </a:lnTo>
                        <a:lnTo>
                          <a:pt x="257" y="90"/>
                        </a:lnTo>
                        <a:lnTo>
                          <a:pt x="265" y="95"/>
                        </a:lnTo>
                        <a:lnTo>
                          <a:pt x="274" y="95"/>
                        </a:lnTo>
                        <a:lnTo>
                          <a:pt x="277" y="97"/>
                        </a:lnTo>
                        <a:lnTo>
                          <a:pt x="287" y="101"/>
                        </a:lnTo>
                        <a:lnTo>
                          <a:pt x="304" y="114"/>
                        </a:lnTo>
                        <a:lnTo>
                          <a:pt x="304" y="120"/>
                        </a:lnTo>
                        <a:lnTo>
                          <a:pt x="311" y="128"/>
                        </a:lnTo>
                        <a:lnTo>
                          <a:pt x="312" y="133"/>
                        </a:lnTo>
                        <a:lnTo>
                          <a:pt x="326" y="145"/>
                        </a:lnTo>
                        <a:lnTo>
                          <a:pt x="312" y="162"/>
                        </a:lnTo>
                        <a:lnTo>
                          <a:pt x="311" y="162"/>
                        </a:lnTo>
                        <a:lnTo>
                          <a:pt x="301" y="162"/>
                        </a:lnTo>
                        <a:lnTo>
                          <a:pt x="296" y="154"/>
                        </a:lnTo>
                        <a:lnTo>
                          <a:pt x="292" y="154"/>
                        </a:lnTo>
                        <a:lnTo>
                          <a:pt x="282" y="154"/>
                        </a:lnTo>
                        <a:lnTo>
                          <a:pt x="257" y="126"/>
                        </a:lnTo>
                        <a:lnTo>
                          <a:pt x="240" y="128"/>
                        </a:lnTo>
                        <a:lnTo>
                          <a:pt x="223" y="126"/>
                        </a:lnTo>
                        <a:lnTo>
                          <a:pt x="220" y="130"/>
                        </a:lnTo>
                        <a:lnTo>
                          <a:pt x="213" y="135"/>
                        </a:lnTo>
                        <a:lnTo>
                          <a:pt x="213" y="133"/>
                        </a:lnTo>
                        <a:lnTo>
                          <a:pt x="208" y="143"/>
                        </a:lnTo>
                        <a:lnTo>
                          <a:pt x="193" y="154"/>
                        </a:lnTo>
                        <a:lnTo>
                          <a:pt x="182" y="147"/>
                        </a:lnTo>
                        <a:lnTo>
                          <a:pt x="174" y="145"/>
                        </a:lnTo>
                        <a:lnTo>
                          <a:pt x="162" y="145"/>
                        </a:lnTo>
                        <a:lnTo>
                          <a:pt x="155" y="143"/>
                        </a:lnTo>
                        <a:lnTo>
                          <a:pt x="149" y="145"/>
                        </a:lnTo>
                        <a:lnTo>
                          <a:pt x="142" y="126"/>
                        </a:lnTo>
                        <a:lnTo>
                          <a:pt x="130" y="109"/>
                        </a:lnTo>
                        <a:lnTo>
                          <a:pt x="113" y="90"/>
                        </a:lnTo>
                        <a:lnTo>
                          <a:pt x="106" y="76"/>
                        </a:lnTo>
                        <a:lnTo>
                          <a:pt x="98" y="65"/>
                        </a:lnTo>
                        <a:lnTo>
                          <a:pt x="76" y="65"/>
                        </a:lnTo>
                        <a:lnTo>
                          <a:pt x="61" y="71"/>
                        </a:lnTo>
                        <a:lnTo>
                          <a:pt x="49" y="63"/>
                        </a:lnTo>
                        <a:lnTo>
                          <a:pt x="30" y="57"/>
                        </a:lnTo>
                        <a:lnTo>
                          <a:pt x="20" y="51"/>
                        </a:lnTo>
                        <a:lnTo>
                          <a:pt x="20" y="27"/>
                        </a:lnTo>
                        <a:lnTo>
                          <a:pt x="22" y="1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d9bab">
                      <a:alpha val="50000"/>
                    </a:srgbClr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957720" y="4398840"/>
                    <a:ext cx="308160" cy="33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214">
                        <a:moveTo>
                          <a:pt x="0" y="8"/>
                        </a:moveTo>
                        <a:lnTo>
                          <a:pt x="20" y="0"/>
                        </a:lnTo>
                        <a:lnTo>
                          <a:pt x="43" y="8"/>
                        </a:lnTo>
                        <a:lnTo>
                          <a:pt x="46" y="17"/>
                        </a:lnTo>
                        <a:lnTo>
                          <a:pt x="46" y="25"/>
                        </a:lnTo>
                        <a:lnTo>
                          <a:pt x="54" y="27"/>
                        </a:lnTo>
                        <a:lnTo>
                          <a:pt x="54" y="31"/>
                        </a:lnTo>
                        <a:lnTo>
                          <a:pt x="59" y="33"/>
                        </a:lnTo>
                        <a:lnTo>
                          <a:pt x="59" y="39"/>
                        </a:lnTo>
                        <a:lnTo>
                          <a:pt x="79" y="60"/>
                        </a:lnTo>
                        <a:lnTo>
                          <a:pt x="83" y="60"/>
                        </a:lnTo>
                        <a:lnTo>
                          <a:pt x="88" y="66"/>
                        </a:lnTo>
                        <a:lnTo>
                          <a:pt x="93" y="74"/>
                        </a:lnTo>
                        <a:lnTo>
                          <a:pt x="97" y="74"/>
                        </a:lnTo>
                        <a:lnTo>
                          <a:pt x="111" y="83"/>
                        </a:lnTo>
                        <a:lnTo>
                          <a:pt x="142" y="85"/>
                        </a:lnTo>
                        <a:lnTo>
                          <a:pt x="146" y="112"/>
                        </a:lnTo>
                        <a:lnTo>
                          <a:pt x="149" y="116"/>
                        </a:lnTo>
                        <a:lnTo>
                          <a:pt x="147" y="128"/>
                        </a:lnTo>
                        <a:lnTo>
                          <a:pt x="165" y="137"/>
                        </a:lnTo>
                        <a:lnTo>
                          <a:pt x="183" y="143"/>
                        </a:lnTo>
                        <a:lnTo>
                          <a:pt x="183" y="188"/>
                        </a:lnTo>
                        <a:lnTo>
                          <a:pt x="193" y="209"/>
                        </a:lnTo>
                        <a:lnTo>
                          <a:pt x="185" y="213"/>
                        </a:lnTo>
                        <a:lnTo>
                          <a:pt x="177" y="213"/>
                        </a:lnTo>
                        <a:lnTo>
                          <a:pt x="175" y="201"/>
                        </a:lnTo>
                        <a:lnTo>
                          <a:pt x="154" y="213"/>
                        </a:lnTo>
                        <a:lnTo>
                          <a:pt x="146" y="194"/>
                        </a:lnTo>
                        <a:lnTo>
                          <a:pt x="137" y="176"/>
                        </a:lnTo>
                        <a:lnTo>
                          <a:pt x="116" y="157"/>
                        </a:lnTo>
                        <a:lnTo>
                          <a:pt x="108" y="157"/>
                        </a:lnTo>
                        <a:lnTo>
                          <a:pt x="88" y="141"/>
                        </a:lnTo>
                        <a:lnTo>
                          <a:pt x="87" y="132"/>
                        </a:lnTo>
                        <a:lnTo>
                          <a:pt x="87" y="124"/>
                        </a:lnTo>
                        <a:lnTo>
                          <a:pt x="72" y="91"/>
                        </a:lnTo>
                        <a:lnTo>
                          <a:pt x="64" y="74"/>
                        </a:lnTo>
                        <a:lnTo>
                          <a:pt x="43" y="58"/>
                        </a:lnTo>
                        <a:lnTo>
                          <a:pt x="18" y="31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dd9bab">
                      <a:alpha val="50000"/>
                    </a:srgbClr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7535880" y="3997080"/>
                    <a:ext cx="299880" cy="39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247">
                        <a:moveTo>
                          <a:pt x="13" y="0"/>
                        </a:moveTo>
                        <a:lnTo>
                          <a:pt x="31" y="0"/>
                        </a:lnTo>
                        <a:lnTo>
                          <a:pt x="47" y="26"/>
                        </a:lnTo>
                        <a:lnTo>
                          <a:pt x="43" y="49"/>
                        </a:lnTo>
                        <a:lnTo>
                          <a:pt x="54" y="59"/>
                        </a:lnTo>
                        <a:lnTo>
                          <a:pt x="59" y="75"/>
                        </a:lnTo>
                        <a:lnTo>
                          <a:pt x="72" y="81"/>
                        </a:lnTo>
                        <a:lnTo>
                          <a:pt x="85" y="83"/>
                        </a:lnTo>
                        <a:lnTo>
                          <a:pt x="108" y="96"/>
                        </a:lnTo>
                        <a:lnTo>
                          <a:pt x="121" y="112"/>
                        </a:lnTo>
                        <a:lnTo>
                          <a:pt x="124" y="112"/>
                        </a:lnTo>
                        <a:lnTo>
                          <a:pt x="142" y="122"/>
                        </a:lnTo>
                        <a:lnTo>
                          <a:pt x="142" y="152"/>
                        </a:lnTo>
                        <a:lnTo>
                          <a:pt x="149" y="167"/>
                        </a:lnTo>
                        <a:lnTo>
                          <a:pt x="154" y="175"/>
                        </a:lnTo>
                        <a:lnTo>
                          <a:pt x="160" y="181"/>
                        </a:lnTo>
                        <a:lnTo>
                          <a:pt x="167" y="193"/>
                        </a:lnTo>
                        <a:lnTo>
                          <a:pt x="168" y="203"/>
                        </a:lnTo>
                        <a:lnTo>
                          <a:pt x="188" y="213"/>
                        </a:lnTo>
                        <a:lnTo>
                          <a:pt x="185" y="226"/>
                        </a:lnTo>
                        <a:lnTo>
                          <a:pt x="168" y="226"/>
                        </a:lnTo>
                        <a:lnTo>
                          <a:pt x="162" y="220"/>
                        </a:lnTo>
                        <a:lnTo>
                          <a:pt x="154" y="220"/>
                        </a:lnTo>
                        <a:lnTo>
                          <a:pt x="154" y="246"/>
                        </a:lnTo>
                        <a:lnTo>
                          <a:pt x="144" y="246"/>
                        </a:lnTo>
                        <a:lnTo>
                          <a:pt x="132" y="232"/>
                        </a:lnTo>
                        <a:lnTo>
                          <a:pt x="126" y="226"/>
                        </a:lnTo>
                        <a:lnTo>
                          <a:pt x="126" y="213"/>
                        </a:lnTo>
                        <a:lnTo>
                          <a:pt x="113" y="213"/>
                        </a:lnTo>
                        <a:lnTo>
                          <a:pt x="106" y="226"/>
                        </a:lnTo>
                        <a:lnTo>
                          <a:pt x="101" y="213"/>
                        </a:lnTo>
                        <a:lnTo>
                          <a:pt x="96" y="199"/>
                        </a:lnTo>
                        <a:lnTo>
                          <a:pt x="118" y="193"/>
                        </a:lnTo>
                        <a:lnTo>
                          <a:pt x="129" y="195"/>
                        </a:lnTo>
                        <a:lnTo>
                          <a:pt x="129" y="171"/>
                        </a:lnTo>
                        <a:lnTo>
                          <a:pt x="119" y="165"/>
                        </a:lnTo>
                        <a:lnTo>
                          <a:pt x="113" y="146"/>
                        </a:lnTo>
                        <a:lnTo>
                          <a:pt x="108" y="120"/>
                        </a:lnTo>
                        <a:lnTo>
                          <a:pt x="88" y="114"/>
                        </a:lnTo>
                        <a:lnTo>
                          <a:pt x="78" y="100"/>
                        </a:lnTo>
                        <a:lnTo>
                          <a:pt x="65" y="96"/>
                        </a:lnTo>
                        <a:lnTo>
                          <a:pt x="72" y="116"/>
                        </a:lnTo>
                        <a:lnTo>
                          <a:pt x="54" y="126"/>
                        </a:lnTo>
                        <a:lnTo>
                          <a:pt x="43" y="104"/>
                        </a:lnTo>
                        <a:lnTo>
                          <a:pt x="36" y="96"/>
                        </a:lnTo>
                        <a:lnTo>
                          <a:pt x="36" y="83"/>
                        </a:lnTo>
                        <a:lnTo>
                          <a:pt x="21" y="67"/>
                        </a:lnTo>
                        <a:lnTo>
                          <a:pt x="7" y="59"/>
                        </a:lnTo>
                        <a:lnTo>
                          <a:pt x="0" y="49"/>
                        </a:lnTo>
                        <a:lnTo>
                          <a:pt x="3" y="39"/>
                        </a:lnTo>
                        <a:lnTo>
                          <a:pt x="15" y="47"/>
                        </a:lnTo>
                        <a:lnTo>
                          <a:pt x="18" y="33"/>
                        </a:lnTo>
                        <a:lnTo>
                          <a:pt x="15" y="22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dd9bab">
                      <a:alpha val="50000"/>
                    </a:srgbClr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7467480" y="3306600"/>
                    <a:ext cx="209520" cy="32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203">
                        <a:moveTo>
                          <a:pt x="28" y="0"/>
                        </a:moveTo>
                        <a:lnTo>
                          <a:pt x="52" y="10"/>
                        </a:lnTo>
                        <a:lnTo>
                          <a:pt x="69" y="27"/>
                        </a:lnTo>
                        <a:lnTo>
                          <a:pt x="79" y="43"/>
                        </a:lnTo>
                        <a:lnTo>
                          <a:pt x="85" y="43"/>
                        </a:lnTo>
                        <a:lnTo>
                          <a:pt x="85" y="54"/>
                        </a:lnTo>
                        <a:lnTo>
                          <a:pt x="93" y="64"/>
                        </a:lnTo>
                        <a:lnTo>
                          <a:pt x="103" y="76"/>
                        </a:lnTo>
                        <a:lnTo>
                          <a:pt x="120" y="97"/>
                        </a:lnTo>
                        <a:lnTo>
                          <a:pt x="131" y="126"/>
                        </a:lnTo>
                        <a:lnTo>
                          <a:pt x="109" y="124"/>
                        </a:lnTo>
                        <a:lnTo>
                          <a:pt x="92" y="118"/>
                        </a:lnTo>
                        <a:lnTo>
                          <a:pt x="104" y="138"/>
                        </a:lnTo>
                        <a:lnTo>
                          <a:pt x="104" y="152"/>
                        </a:lnTo>
                        <a:lnTo>
                          <a:pt x="104" y="161"/>
                        </a:lnTo>
                        <a:lnTo>
                          <a:pt x="96" y="157"/>
                        </a:lnTo>
                        <a:lnTo>
                          <a:pt x="87" y="150"/>
                        </a:lnTo>
                        <a:lnTo>
                          <a:pt x="74" y="132"/>
                        </a:lnTo>
                        <a:lnTo>
                          <a:pt x="65" y="128"/>
                        </a:lnTo>
                        <a:lnTo>
                          <a:pt x="51" y="132"/>
                        </a:lnTo>
                        <a:lnTo>
                          <a:pt x="41" y="138"/>
                        </a:lnTo>
                        <a:lnTo>
                          <a:pt x="46" y="150"/>
                        </a:lnTo>
                        <a:lnTo>
                          <a:pt x="60" y="157"/>
                        </a:lnTo>
                        <a:lnTo>
                          <a:pt x="74" y="163"/>
                        </a:lnTo>
                        <a:lnTo>
                          <a:pt x="80" y="179"/>
                        </a:lnTo>
                        <a:lnTo>
                          <a:pt x="79" y="196"/>
                        </a:lnTo>
                        <a:lnTo>
                          <a:pt x="79" y="202"/>
                        </a:lnTo>
                        <a:lnTo>
                          <a:pt x="74" y="202"/>
                        </a:lnTo>
                        <a:lnTo>
                          <a:pt x="65" y="196"/>
                        </a:lnTo>
                        <a:lnTo>
                          <a:pt x="60" y="194"/>
                        </a:lnTo>
                        <a:lnTo>
                          <a:pt x="57" y="190"/>
                        </a:lnTo>
                        <a:lnTo>
                          <a:pt x="51" y="198"/>
                        </a:lnTo>
                        <a:lnTo>
                          <a:pt x="41" y="202"/>
                        </a:lnTo>
                        <a:lnTo>
                          <a:pt x="36" y="194"/>
                        </a:lnTo>
                        <a:lnTo>
                          <a:pt x="36" y="177"/>
                        </a:lnTo>
                        <a:lnTo>
                          <a:pt x="35" y="165"/>
                        </a:lnTo>
                        <a:lnTo>
                          <a:pt x="25" y="157"/>
                        </a:lnTo>
                        <a:lnTo>
                          <a:pt x="14" y="171"/>
                        </a:lnTo>
                        <a:lnTo>
                          <a:pt x="2" y="171"/>
                        </a:lnTo>
                        <a:lnTo>
                          <a:pt x="0" y="161"/>
                        </a:lnTo>
                        <a:lnTo>
                          <a:pt x="2" y="140"/>
                        </a:lnTo>
                        <a:lnTo>
                          <a:pt x="13" y="130"/>
                        </a:lnTo>
                        <a:lnTo>
                          <a:pt x="11" y="101"/>
                        </a:lnTo>
                        <a:lnTo>
                          <a:pt x="11" y="91"/>
                        </a:lnTo>
                        <a:lnTo>
                          <a:pt x="19" y="87"/>
                        </a:lnTo>
                        <a:lnTo>
                          <a:pt x="30" y="97"/>
                        </a:lnTo>
                        <a:lnTo>
                          <a:pt x="46" y="103"/>
                        </a:lnTo>
                        <a:lnTo>
                          <a:pt x="46" y="85"/>
                        </a:lnTo>
                        <a:lnTo>
                          <a:pt x="36" y="80"/>
                        </a:lnTo>
                        <a:lnTo>
                          <a:pt x="36" y="76"/>
                        </a:lnTo>
                        <a:lnTo>
                          <a:pt x="39" y="76"/>
                        </a:lnTo>
                        <a:lnTo>
                          <a:pt x="43" y="76"/>
                        </a:lnTo>
                        <a:lnTo>
                          <a:pt x="46" y="76"/>
                        </a:lnTo>
                        <a:lnTo>
                          <a:pt x="51" y="76"/>
                        </a:lnTo>
                        <a:lnTo>
                          <a:pt x="57" y="68"/>
                        </a:lnTo>
                        <a:lnTo>
                          <a:pt x="54" y="64"/>
                        </a:lnTo>
                        <a:lnTo>
                          <a:pt x="47" y="49"/>
                        </a:lnTo>
                        <a:lnTo>
                          <a:pt x="36" y="35"/>
                        </a:lnTo>
                        <a:lnTo>
                          <a:pt x="25" y="29"/>
                        </a:lnTo>
                        <a:lnTo>
                          <a:pt x="17" y="19"/>
                        </a:lnTo>
                        <a:lnTo>
                          <a:pt x="28" y="0"/>
                        </a:lnTo>
                      </a:path>
                    </a:pathLst>
                  </a:custGeom>
                  <a:solidFill>
                    <a:srgbClr val="dd9bab">
                      <a:alpha val="50000"/>
                    </a:srgbClr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7197480" y="2890800"/>
                    <a:ext cx="23040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163">
                        <a:moveTo>
                          <a:pt x="0" y="0"/>
                        </a:moveTo>
                        <a:lnTo>
                          <a:pt x="11" y="0"/>
                        </a:lnTo>
                        <a:lnTo>
                          <a:pt x="18" y="13"/>
                        </a:lnTo>
                        <a:lnTo>
                          <a:pt x="38" y="28"/>
                        </a:lnTo>
                        <a:lnTo>
                          <a:pt x="46" y="47"/>
                        </a:lnTo>
                        <a:lnTo>
                          <a:pt x="61" y="49"/>
                        </a:lnTo>
                        <a:lnTo>
                          <a:pt x="70" y="51"/>
                        </a:lnTo>
                        <a:lnTo>
                          <a:pt x="80" y="62"/>
                        </a:lnTo>
                        <a:lnTo>
                          <a:pt x="91" y="62"/>
                        </a:lnTo>
                        <a:lnTo>
                          <a:pt x="102" y="70"/>
                        </a:lnTo>
                        <a:lnTo>
                          <a:pt x="114" y="79"/>
                        </a:lnTo>
                        <a:lnTo>
                          <a:pt x="125" y="89"/>
                        </a:lnTo>
                        <a:lnTo>
                          <a:pt x="122" y="94"/>
                        </a:lnTo>
                        <a:lnTo>
                          <a:pt x="115" y="96"/>
                        </a:lnTo>
                        <a:lnTo>
                          <a:pt x="109" y="96"/>
                        </a:lnTo>
                        <a:lnTo>
                          <a:pt x="107" y="100"/>
                        </a:lnTo>
                        <a:lnTo>
                          <a:pt x="120" y="113"/>
                        </a:lnTo>
                        <a:lnTo>
                          <a:pt x="128" y="122"/>
                        </a:lnTo>
                        <a:lnTo>
                          <a:pt x="144" y="138"/>
                        </a:lnTo>
                        <a:lnTo>
                          <a:pt x="136" y="149"/>
                        </a:lnTo>
                        <a:lnTo>
                          <a:pt x="126" y="151"/>
                        </a:lnTo>
                        <a:lnTo>
                          <a:pt x="126" y="162"/>
                        </a:lnTo>
                        <a:lnTo>
                          <a:pt x="114" y="162"/>
                        </a:lnTo>
                        <a:lnTo>
                          <a:pt x="109" y="154"/>
                        </a:lnTo>
                        <a:lnTo>
                          <a:pt x="96" y="143"/>
                        </a:lnTo>
                        <a:lnTo>
                          <a:pt x="86" y="126"/>
                        </a:lnTo>
                        <a:lnTo>
                          <a:pt x="74" y="102"/>
                        </a:lnTo>
                        <a:lnTo>
                          <a:pt x="56" y="89"/>
                        </a:lnTo>
                        <a:lnTo>
                          <a:pt x="40" y="62"/>
                        </a:lnTo>
                        <a:lnTo>
                          <a:pt x="29" y="55"/>
                        </a:lnTo>
                        <a:lnTo>
                          <a:pt x="21" y="49"/>
                        </a:lnTo>
                        <a:lnTo>
                          <a:pt x="16" y="36"/>
                        </a:lnTo>
                        <a:lnTo>
                          <a:pt x="3" y="23"/>
                        </a:lnTo>
                        <a:lnTo>
                          <a:pt x="3" y="1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d9bab">
                      <a:alpha val="50000"/>
                    </a:srgbClr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" name=""/>
                <p:cNvSpPr/>
                <p:nvPr/>
              </p:nvSpPr>
              <p:spPr>
                <a:xfrm>
                  <a:off x="3867120" y="3465360"/>
                  <a:ext cx="1823760" cy="2130480"/>
                </a:xfrm>
                <a:custGeom>
                  <a:avLst/>
                  <a:gdLst/>
                  <a:ahLst/>
                  <a:rect l="l" t="t" r="r" b="b"/>
                  <a:pathLst>
                    <a:path w="1149" h="1342">
                      <a:moveTo>
                        <a:pt x="860" y="159"/>
                      </a:moveTo>
                      <a:lnTo>
                        <a:pt x="879" y="217"/>
                      </a:lnTo>
                      <a:lnTo>
                        <a:pt x="917" y="304"/>
                      </a:lnTo>
                      <a:lnTo>
                        <a:pt x="985" y="440"/>
                      </a:lnTo>
                      <a:lnTo>
                        <a:pt x="1014" y="457"/>
                      </a:lnTo>
                      <a:lnTo>
                        <a:pt x="1028" y="498"/>
                      </a:lnTo>
                      <a:lnTo>
                        <a:pt x="1086" y="496"/>
                      </a:lnTo>
                      <a:lnTo>
                        <a:pt x="1124" y="484"/>
                      </a:lnTo>
                      <a:lnTo>
                        <a:pt x="1148" y="484"/>
                      </a:lnTo>
                      <a:lnTo>
                        <a:pt x="1146" y="535"/>
                      </a:lnTo>
                      <a:lnTo>
                        <a:pt x="1141" y="566"/>
                      </a:lnTo>
                      <a:lnTo>
                        <a:pt x="1037" y="684"/>
                      </a:lnTo>
                      <a:lnTo>
                        <a:pt x="942" y="808"/>
                      </a:lnTo>
                      <a:lnTo>
                        <a:pt x="942" y="860"/>
                      </a:lnTo>
                      <a:lnTo>
                        <a:pt x="971" y="893"/>
                      </a:lnTo>
                      <a:lnTo>
                        <a:pt x="956" y="917"/>
                      </a:lnTo>
                      <a:lnTo>
                        <a:pt x="966" y="957"/>
                      </a:lnTo>
                      <a:lnTo>
                        <a:pt x="956" y="984"/>
                      </a:lnTo>
                      <a:lnTo>
                        <a:pt x="935" y="1004"/>
                      </a:lnTo>
                      <a:lnTo>
                        <a:pt x="917" y="1004"/>
                      </a:lnTo>
                      <a:lnTo>
                        <a:pt x="884" y="1046"/>
                      </a:lnTo>
                      <a:lnTo>
                        <a:pt x="855" y="1093"/>
                      </a:lnTo>
                      <a:lnTo>
                        <a:pt x="860" y="1141"/>
                      </a:lnTo>
                      <a:lnTo>
                        <a:pt x="834" y="1163"/>
                      </a:lnTo>
                      <a:lnTo>
                        <a:pt x="805" y="1215"/>
                      </a:lnTo>
                      <a:lnTo>
                        <a:pt x="773" y="1265"/>
                      </a:lnTo>
                      <a:lnTo>
                        <a:pt x="756" y="1281"/>
                      </a:lnTo>
                      <a:lnTo>
                        <a:pt x="742" y="1285"/>
                      </a:lnTo>
                      <a:lnTo>
                        <a:pt x="716" y="1318"/>
                      </a:lnTo>
                      <a:lnTo>
                        <a:pt x="671" y="1337"/>
                      </a:lnTo>
                      <a:lnTo>
                        <a:pt x="617" y="1341"/>
                      </a:lnTo>
                      <a:lnTo>
                        <a:pt x="590" y="1318"/>
                      </a:lnTo>
                      <a:lnTo>
                        <a:pt x="581" y="1300"/>
                      </a:lnTo>
                      <a:lnTo>
                        <a:pt x="577" y="1271"/>
                      </a:lnTo>
                      <a:lnTo>
                        <a:pt x="558" y="1258"/>
                      </a:lnTo>
                      <a:lnTo>
                        <a:pt x="538" y="1207"/>
                      </a:lnTo>
                      <a:lnTo>
                        <a:pt x="534" y="1180"/>
                      </a:lnTo>
                      <a:lnTo>
                        <a:pt x="531" y="1149"/>
                      </a:lnTo>
                      <a:lnTo>
                        <a:pt x="522" y="1126"/>
                      </a:lnTo>
                      <a:lnTo>
                        <a:pt x="522" y="1114"/>
                      </a:lnTo>
                      <a:lnTo>
                        <a:pt x="505" y="1091"/>
                      </a:lnTo>
                      <a:lnTo>
                        <a:pt x="487" y="1072"/>
                      </a:lnTo>
                      <a:lnTo>
                        <a:pt x="473" y="1039"/>
                      </a:lnTo>
                      <a:lnTo>
                        <a:pt x="466" y="1019"/>
                      </a:lnTo>
                      <a:lnTo>
                        <a:pt x="470" y="979"/>
                      </a:lnTo>
                      <a:lnTo>
                        <a:pt x="494" y="926"/>
                      </a:lnTo>
                      <a:lnTo>
                        <a:pt x="499" y="862"/>
                      </a:lnTo>
                      <a:lnTo>
                        <a:pt x="482" y="796"/>
                      </a:lnTo>
                      <a:lnTo>
                        <a:pt x="451" y="769"/>
                      </a:lnTo>
                      <a:lnTo>
                        <a:pt x="430" y="727"/>
                      </a:lnTo>
                      <a:lnTo>
                        <a:pt x="439" y="672"/>
                      </a:lnTo>
                      <a:lnTo>
                        <a:pt x="425" y="630"/>
                      </a:lnTo>
                      <a:lnTo>
                        <a:pt x="388" y="624"/>
                      </a:lnTo>
                      <a:lnTo>
                        <a:pt x="350" y="591"/>
                      </a:lnTo>
                      <a:lnTo>
                        <a:pt x="302" y="574"/>
                      </a:lnTo>
                      <a:lnTo>
                        <a:pt x="251" y="601"/>
                      </a:lnTo>
                      <a:lnTo>
                        <a:pt x="125" y="595"/>
                      </a:lnTo>
                      <a:lnTo>
                        <a:pt x="57" y="521"/>
                      </a:lnTo>
                      <a:lnTo>
                        <a:pt x="0" y="428"/>
                      </a:lnTo>
                      <a:lnTo>
                        <a:pt x="10" y="393"/>
                      </a:lnTo>
                      <a:lnTo>
                        <a:pt x="36" y="362"/>
                      </a:lnTo>
                      <a:lnTo>
                        <a:pt x="43" y="298"/>
                      </a:lnTo>
                      <a:lnTo>
                        <a:pt x="64" y="250"/>
                      </a:lnTo>
                      <a:lnTo>
                        <a:pt x="113" y="196"/>
                      </a:lnTo>
                      <a:lnTo>
                        <a:pt x="163" y="169"/>
                      </a:lnTo>
                      <a:lnTo>
                        <a:pt x="212" y="118"/>
                      </a:lnTo>
                      <a:lnTo>
                        <a:pt x="220" y="93"/>
                      </a:lnTo>
                      <a:lnTo>
                        <a:pt x="283" y="35"/>
                      </a:lnTo>
                      <a:lnTo>
                        <a:pt x="323" y="60"/>
                      </a:lnTo>
                      <a:lnTo>
                        <a:pt x="350" y="60"/>
                      </a:lnTo>
                      <a:lnTo>
                        <a:pt x="387" y="25"/>
                      </a:lnTo>
                      <a:lnTo>
                        <a:pt x="425" y="21"/>
                      </a:lnTo>
                      <a:lnTo>
                        <a:pt x="451" y="29"/>
                      </a:lnTo>
                      <a:lnTo>
                        <a:pt x="475" y="4"/>
                      </a:lnTo>
                      <a:lnTo>
                        <a:pt x="506" y="0"/>
                      </a:lnTo>
                      <a:lnTo>
                        <a:pt x="515" y="41"/>
                      </a:lnTo>
                      <a:lnTo>
                        <a:pt x="534" y="76"/>
                      </a:lnTo>
                      <a:lnTo>
                        <a:pt x="597" y="112"/>
                      </a:lnTo>
                      <a:lnTo>
                        <a:pt x="643" y="118"/>
                      </a:lnTo>
                      <a:lnTo>
                        <a:pt x="647" y="83"/>
                      </a:lnTo>
                      <a:lnTo>
                        <a:pt x="685" y="83"/>
                      </a:lnTo>
                      <a:lnTo>
                        <a:pt x="730" y="103"/>
                      </a:lnTo>
                      <a:lnTo>
                        <a:pt x="779" y="118"/>
                      </a:lnTo>
                      <a:lnTo>
                        <a:pt x="822" y="103"/>
                      </a:lnTo>
                      <a:lnTo>
                        <a:pt x="860" y="159"/>
                      </a:lnTo>
                    </a:path>
                  </a:pathLst>
                </a:custGeom>
                <a:solidFill>
                  <a:srgbClr val="dd9bab">
                    <a:alpha val="50000"/>
                  </a:srgbClr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270320" y="2352600"/>
                  <a:ext cx="3297240" cy="2122560"/>
                </a:xfrm>
                <a:custGeom>
                  <a:avLst/>
                  <a:gdLst/>
                  <a:ahLst/>
                  <a:rect l="l" t="t" r="r" b="b"/>
                  <a:pathLst>
                    <a:path w="2077" h="1337">
                      <a:moveTo>
                        <a:pt x="0" y="599"/>
                      </a:moveTo>
                      <a:lnTo>
                        <a:pt x="23" y="580"/>
                      </a:lnTo>
                      <a:lnTo>
                        <a:pt x="31" y="568"/>
                      </a:lnTo>
                      <a:lnTo>
                        <a:pt x="59" y="568"/>
                      </a:lnTo>
                      <a:lnTo>
                        <a:pt x="82" y="570"/>
                      </a:lnTo>
                      <a:lnTo>
                        <a:pt x="105" y="560"/>
                      </a:lnTo>
                      <a:lnTo>
                        <a:pt x="122" y="555"/>
                      </a:lnTo>
                      <a:lnTo>
                        <a:pt x="124" y="533"/>
                      </a:lnTo>
                      <a:lnTo>
                        <a:pt x="138" y="518"/>
                      </a:lnTo>
                      <a:lnTo>
                        <a:pt x="110" y="498"/>
                      </a:lnTo>
                      <a:lnTo>
                        <a:pt x="105" y="485"/>
                      </a:lnTo>
                      <a:lnTo>
                        <a:pt x="106" y="465"/>
                      </a:lnTo>
                      <a:lnTo>
                        <a:pt x="126" y="465"/>
                      </a:lnTo>
                      <a:lnTo>
                        <a:pt x="141" y="460"/>
                      </a:lnTo>
                      <a:lnTo>
                        <a:pt x="143" y="465"/>
                      </a:lnTo>
                      <a:lnTo>
                        <a:pt x="157" y="450"/>
                      </a:lnTo>
                      <a:lnTo>
                        <a:pt x="174" y="444"/>
                      </a:lnTo>
                      <a:lnTo>
                        <a:pt x="180" y="444"/>
                      </a:lnTo>
                      <a:lnTo>
                        <a:pt x="188" y="432"/>
                      </a:lnTo>
                      <a:lnTo>
                        <a:pt x="199" y="430"/>
                      </a:lnTo>
                      <a:lnTo>
                        <a:pt x="207" y="405"/>
                      </a:lnTo>
                      <a:lnTo>
                        <a:pt x="220" y="411"/>
                      </a:lnTo>
                      <a:lnTo>
                        <a:pt x="235" y="396"/>
                      </a:lnTo>
                      <a:lnTo>
                        <a:pt x="249" y="384"/>
                      </a:lnTo>
                      <a:lnTo>
                        <a:pt x="265" y="376"/>
                      </a:lnTo>
                      <a:lnTo>
                        <a:pt x="279" y="376"/>
                      </a:lnTo>
                      <a:lnTo>
                        <a:pt x="288" y="376"/>
                      </a:lnTo>
                      <a:lnTo>
                        <a:pt x="281" y="355"/>
                      </a:lnTo>
                      <a:lnTo>
                        <a:pt x="277" y="341"/>
                      </a:lnTo>
                      <a:lnTo>
                        <a:pt x="272" y="306"/>
                      </a:lnTo>
                      <a:lnTo>
                        <a:pt x="296" y="301"/>
                      </a:lnTo>
                      <a:lnTo>
                        <a:pt x="309" y="299"/>
                      </a:lnTo>
                      <a:lnTo>
                        <a:pt x="303" y="312"/>
                      </a:lnTo>
                      <a:lnTo>
                        <a:pt x="312" y="320"/>
                      </a:lnTo>
                      <a:lnTo>
                        <a:pt x="319" y="335"/>
                      </a:lnTo>
                      <a:lnTo>
                        <a:pt x="324" y="343"/>
                      </a:lnTo>
                      <a:lnTo>
                        <a:pt x="350" y="341"/>
                      </a:lnTo>
                      <a:lnTo>
                        <a:pt x="378" y="308"/>
                      </a:lnTo>
                      <a:lnTo>
                        <a:pt x="394" y="297"/>
                      </a:lnTo>
                      <a:lnTo>
                        <a:pt x="403" y="283"/>
                      </a:lnTo>
                      <a:lnTo>
                        <a:pt x="411" y="273"/>
                      </a:lnTo>
                      <a:lnTo>
                        <a:pt x="425" y="254"/>
                      </a:lnTo>
                      <a:lnTo>
                        <a:pt x="434" y="262"/>
                      </a:lnTo>
                      <a:lnTo>
                        <a:pt x="434" y="252"/>
                      </a:lnTo>
                      <a:lnTo>
                        <a:pt x="441" y="250"/>
                      </a:lnTo>
                      <a:lnTo>
                        <a:pt x="455" y="250"/>
                      </a:lnTo>
                      <a:lnTo>
                        <a:pt x="485" y="275"/>
                      </a:lnTo>
                      <a:lnTo>
                        <a:pt x="479" y="200"/>
                      </a:lnTo>
                      <a:lnTo>
                        <a:pt x="455" y="231"/>
                      </a:lnTo>
                      <a:lnTo>
                        <a:pt x="436" y="231"/>
                      </a:lnTo>
                      <a:lnTo>
                        <a:pt x="431" y="215"/>
                      </a:lnTo>
                      <a:lnTo>
                        <a:pt x="431" y="200"/>
                      </a:lnTo>
                      <a:lnTo>
                        <a:pt x="425" y="194"/>
                      </a:lnTo>
                      <a:lnTo>
                        <a:pt x="441" y="180"/>
                      </a:lnTo>
                      <a:lnTo>
                        <a:pt x="448" y="167"/>
                      </a:lnTo>
                      <a:lnTo>
                        <a:pt x="460" y="163"/>
                      </a:lnTo>
                      <a:lnTo>
                        <a:pt x="467" y="161"/>
                      </a:lnTo>
                      <a:lnTo>
                        <a:pt x="472" y="147"/>
                      </a:lnTo>
                      <a:lnTo>
                        <a:pt x="479" y="147"/>
                      </a:lnTo>
                      <a:lnTo>
                        <a:pt x="488" y="147"/>
                      </a:lnTo>
                      <a:lnTo>
                        <a:pt x="472" y="128"/>
                      </a:lnTo>
                      <a:lnTo>
                        <a:pt x="455" y="134"/>
                      </a:lnTo>
                      <a:lnTo>
                        <a:pt x="444" y="134"/>
                      </a:lnTo>
                      <a:lnTo>
                        <a:pt x="434" y="126"/>
                      </a:lnTo>
                      <a:lnTo>
                        <a:pt x="434" y="136"/>
                      </a:lnTo>
                      <a:lnTo>
                        <a:pt x="425" y="153"/>
                      </a:lnTo>
                      <a:lnTo>
                        <a:pt x="411" y="171"/>
                      </a:lnTo>
                      <a:lnTo>
                        <a:pt x="397" y="180"/>
                      </a:lnTo>
                      <a:lnTo>
                        <a:pt x="390" y="180"/>
                      </a:lnTo>
                      <a:lnTo>
                        <a:pt x="385" y="194"/>
                      </a:lnTo>
                      <a:lnTo>
                        <a:pt x="385" y="200"/>
                      </a:lnTo>
                      <a:lnTo>
                        <a:pt x="378" y="209"/>
                      </a:lnTo>
                      <a:lnTo>
                        <a:pt x="387" y="231"/>
                      </a:lnTo>
                      <a:lnTo>
                        <a:pt x="394" y="250"/>
                      </a:lnTo>
                      <a:lnTo>
                        <a:pt x="382" y="264"/>
                      </a:lnTo>
                      <a:lnTo>
                        <a:pt x="368" y="275"/>
                      </a:lnTo>
                      <a:lnTo>
                        <a:pt x="363" y="297"/>
                      </a:lnTo>
                      <a:lnTo>
                        <a:pt x="356" y="308"/>
                      </a:lnTo>
                      <a:lnTo>
                        <a:pt x="349" y="308"/>
                      </a:lnTo>
                      <a:lnTo>
                        <a:pt x="340" y="312"/>
                      </a:lnTo>
                      <a:lnTo>
                        <a:pt x="324" y="318"/>
                      </a:lnTo>
                      <a:lnTo>
                        <a:pt x="319" y="314"/>
                      </a:lnTo>
                      <a:lnTo>
                        <a:pt x="319" y="306"/>
                      </a:lnTo>
                      <a:lnTo>
                        <a:pt x="319" y="285"/>
                      </a:lnTo>
                      <a:lnTo>
                        <a:pt x="312" y="285"/>
                      </a:lnTo>
                      <a:lnTo>
                        <a:pt x="305" y="279"/>
                      </a:lnTo>
                      <a:lnTo>
                        <a:pt x="309" y="264"/>
                      </a:lnTo>
                      <a:lnTo>
                        <a:pt x="310" y="254"/>
                      </a:lnTo>
                      <a:lnTo>
                        <a:pt x="309" y="252"/>
                      </a:lnTo>
                      <a:lnTo>
                        <a:pt x="300" y="254"/>
                      </a:lnTo>
                      <a:lnTo>
                        <a:pt x="296" y="254"/>
                      </a:lnTo>
                      <a:lnTo>
                        <a:pt x="288" y="254"/>
                      </a:lnTo>
                      <a:lnTo>
                        <a:pt x="286" y="252"/>
                      </a:lnTo>
                      <a:lnTo>
                        <a:pt x="277" y="258"/>
                      </a:lnTo>
                      <a:lnTo>
                        <a:pt x="268" y="271"/>
                      </a:lnTo>
                      <a:lnTo>
                        <a:pt x="260" y="281"/>
                      </a:lnTo>
                      <a:lnTo>
                        <a:pt x="239" y="279"/>
                      </a:lnTo>
                      <a:lnTo>
                        <a:pt x="225" y="275"/>
                      </a:lnTo>
                      <a:lnTo>
                        <a:pt x="218" y="266"/>
                      </a:lnTo>
                      <a:lnTo>
                        <a:pt x="218" y="258"/>
                      </a:lnTo>
                      <a:lnTo>
                        <a:pt x="223" y="252"/>
                      </a:lnTo>
                      <a:lnTo>
                        <a:pt x="230" y="250"/>
                      </a:lnTo>
                      <a:lnTo>
                        <a:pt x="235" y="237"/>
                      </a:lnTo>
                      <a:lnTo>
                        <a:pt x="223" y="240"/>
                      </a:lnTo>
                      <a:lnTo>
                        <a:pt x="218" y="229"/>
                      </a:lnTo>
                      <a:lnTo>
                        <a:pt x="218" y="225"/>
                      </a:lnTo>
                      <a:lnTo>
                        <a:pt x="235" y="223"/>
                      </a:lnTo>
                      <a:lnTo>
                        <a:pt x="249" y="219"/>
                      </a:lnTo>
                      <a:lnTo>
                        <a:pt x="242" y="215"/>
                      </a:lnTo>
                      <a:lnTo>
                        <a:pt x="223" y="217"/>
                      </a:lnTo>
                      <a:lnTo>
                        <a:pt x="223" y="204"/>
                      </a:lnTo>
                      <a:lnTo>
                        <a:pt x="232" y="194"/>
                      </a:lnTo>
                      <a:lnTo>
                        <a:pt x="246" y="188"/>
                      </a:lnTo>
                      <a:lnTo>
                        <a:pt x="249" y="180"/>
                      </a:lnTo>
                      <a:lnTo>
                        <a:pt x="260" y="173"/>
                      </a:lnTo>
                      <a:lnTo>
                        <a:pt x="272" y="171"/>
                      </a:lnTo>
                      <a:lnTo>
                        <a:pt x="281" y="173"/>
                      </a:lnTo>
                      <a:lnTo>
                        <a:pt x="288" y="180"/>
                      </a:lnTo>
                      <a:lnTo>
                        <a:pt x="298" y="171"/>
                      </a:lnTo>
                      <a:lnTo>
                        <a:pt x="288" y="171"/>
                      </a:lnTo>
                      <a:lnTo>
                        <a:pt x="288" y="155"/>
                      </a:lnTo>
                      <a:lnTo>
                        <a:pt x="312" y="136"/>
                      </a:lnTo>
                      <a:lnTo>
                        <a:pt x="324" y="124"/>
                      </a:lnTo>
                      <a:lnTo>
                        <a:pt x="331" y="122"/>
                      </a:lnTo>
                      <a:lnTo>
                        <a:pt x="331" y="116"/>
                      </a:lnTo>
                      <a:lnTo>
                        <a:pt x="347" y="99"/>
                      </a:lnTo>
                      <a:lnTo>
                        <a:pt x="356" y="81"/>
                      </a:lnTo>
                      <a:lnTo>
                        <a:pt x="371" y="72"/>
                      </a:lnTo>
                      <a:lnTo>
                        <a:pt x="361" y="66"/>
                      </a:lnTo>
                      <a:lnTo>
                        <a:pt x="392" y="45"/>
                      </a:lnTo>
                      <a:lnTo>
                        <a:pt x="403" y="45"/>
                      </a:lnTo>
                      <a:lnTo>
                        <a:pt x="403" y="37"/>
                      </a:lnTo>
                      <a:lnTo>
                        <a:pt x="429" y="37"/>
                      </a:lnTo>
                      <a:lnTo>
                        <a:pt x="476" y="2"/>
                      </a:lnTo>
                      <a:lnTo>
                        <a:pt x="485" y="0"/>
                      </a:lnTo>
                      <a:lnTo>
                        <a:pt x="476" y="25"/>
                      </a:lnTo>
                      <a:lnTo>
                        <a:pt x="486" y="10"/>
                      </a:lnTo>
                      <a:lnTo>
                        <a:pt x="500" y="8"/>
                      </a:lnTo>
                      <a:lnTo>
                        <a:pt x="497" y="17"/>
                      </a:lnTo>
                      <a:lnTo>
                        <a:pt x="537" y="4"/>
                      </a:lnTo>
                      <a:lnTo>
                        <a:pt x="556" y="12"/>
                      </a:lnTo>
                      <a:lnTo>
                        <a:pt x="528" y="29"/>
                      </a:lnTo>
                      <a:lnTo>
                        <a:pt x="537" y="37"/>
                      </a:lnTo>
                      <a:lnTo>
                        <a:pt x="575" y="37"/>
                      </a:lnTo>
                      <a:lnTo>
                        <a:pt x="631" y="56"/>
                      </a:lnTo>
                      <a:lnTo>
                        <a:pt x="626" y="76"/>
                      </a:lnTo>
                      <a:lnTo>
                        <a:pt x="605" y="95"/>
                      </a:lnTo>
                      <a:lnTo>
                        <a:pt x="570" y="101"/>
                      </a:lnTo>
                      <a:lnTo>
                        <a:pt x="563" y="126"/>
                      </a:lnTo>
                      <a:lnTo>
                        <a:pt x="566" y="147"/>
                      </a:lnTo>
                      <a:lnTo>
                        <a:pt x="575" y="153"/>
                      </a:lnTo>
                      <a:lnTo>
                        <a:pt x="575" y="163"/>
                      </a:lnTo>
                      <a:lnTo>
                        <a:pt x="580" y="167"/>
                      </a:lnTo>
                      <a:lnTo>
                        <a:pt x="591" y="171"/>
                      </a:lnTo>
                      <a:lnTo>
                        <a:pt x="593" y="182"/>
                      </a:lnTo>
                      <a:lnTo>
                        <a:pt x="601" y="196"/>
                      </a:lnTo>
                      <a:lnTo>
                        <a:pt x="601" y="204"/>
                      </a:lnTo>
                      <a:lnTo>
                        <a:pt x="614" y="204"/>
                      </a:lnTo>
                      <a:lnTo>
                        <a:pt x="619" y="209"/>
                      </a:lnTo>
                      <a:lnTo>
                        <a:pt x="626" y="215"/>
                      </a:lnTo>
                      <a:lnTo>
                        <a:pt x="633" y="204"/>
                      </a:lnTo>
                      <a:lnTo>
                        <a:pt x="638" y="194"/>
                      </a:lnTo>
                      <a:lnTo>
                        <a:pt x="643" y="190"/>
                      </a:lnTo>
                      <a:lnTo>
                        <a:pt x="650" y="190"/>
                      </a:lnTo>
                      <a:lnTo>
                        <a:pt x="662" y="180"/>
                      </a:lnTo>
                      <a:lnTo>
                        <a:pt x="662" y="169"/>
                      </a:lnTo>
                      <a:lnTo>
                        <a:pt x="669" y="161"/>
                      </a:lnTo>
                      <a:lnTo>
                        <a:pt x="669" y="155"/>
                      </a:lnTo>
                      <a:lnTo>
                        <a:pt x="692" y="147"/>
                      </a:lnTo>
                      <a:lnTo>
                        <a:pt x="711" y="140"/>
                      </a:lnTo>
                      <a:lnTo>
                        <a:pt x="736" y="134"/>
                      </a:lnTo>
                      <a:lnTo>
                        <a:pt x="763" y="136"/>
                      </a:lnTo>
                      <a:lnTo>
                        <a:pt x="793" y="136"/>
                      </a:lnTo>
                      <a:lnTo>
                        <a:pt x="838" y="136"/>
                      </a:lnTo>
                      <a:lnTo>
                        <a:pt x="849" y="87"/>
                      </a:lnTo>
                      <a:lnTo>
                        <a:pt x="875" y="91"/>
                      </a:lnTo>
                      <a:lnTo>
                        <a:pt x="894" y="128"/>
                      </a:lnTo>
                      <a:lnTo>
                        <a:pt x="896" y="95"/>
                      </a:lnTo>
                      <a:lnTo>
                        <a:pt x="981" y="4"/>
                      </a:lnTo>
                      <a:lnTo>
                        <a:pt x="1018" y="4"/>
                      </a:lnTo>
                      <a:lnTo>
                        <a:pt x="1049" y="25"/>
                      </a:lnTo>
                      <a:lnTo>
                        <a:pt x="1088" y="23"/>
                      </a:lnTo>
                      <a:lnTo>
                        <a:pt x="1140" y="56"/>
                      </a:lnTo>
                      <a:lnTo>
                        <a:pt x="1203" y="72"/>
                      </a:lnTo>
                      <a:lnTo>
                        <a:pt x="1245" y="70"/>
                      </a:lnTo>
                      <a:lnTo>
                        <a:pt x="1302" y="91"/>
                      </a:lnTo>
                      <a:lnTo>
                        <a:pt x="1347" y="91"/>
                      </a:lnTo>
                      <a:lnTo>
                        <a:pt x="1372" y="76"/>
                      </a:lnTo>
                      <a:lnTo>
                        <a:pt x="1426" y="76"/>
                      </a:lnTo>
                      <a:lnTo>
                        <a:pt x="1454" y="91"/>
                      </a:lnTo>
                      <a:lnTo>
                        <a:pt x="1523" y="91"/>
                      </a:lnTo>
                      <a:lnTo>
                        <a:pt x="1584" y="122"/>
                      </a:lnTo>
                      <a:lnTo>
                        <a:pt x="1698" y="116"/>
                      </a:lnTo>
                      <a:lnTo>
                        <a:pt x="1874" y="128"/>
                      </a:lnTo>
                      <a:lnTo>
                        <a:pt x="1957" y="169"/>
                      </a:lnTo>
                      <a:lnTo>
                        <a:pt x="2032" y="190"/>
                      </a:lnTo>
                      <a:lnTo>
                        <a:pt x="2076" y="215"/>
                      </a:lnTo>
                      <a:lnTo>
                        <a:pt x="2062" y="219"/>
                      </a:lnTo>
                      <a:lnTo>
                        <a:pt x="2032" y="204"/>
                      </a:lnTo>
                      <a:lnTo>
                        <a:pt x="1957" y="196"/>
                      </a:lnTo>
                      <a:lnTo>
                        <a:pt x="1975" y="215"/>
                      </a:lnTo>
                      <a:lnTo>
                        <a:pt x="2012" y="223"/>
                      </a:lnTo>
                      <a:lnTo>
                        <a:pt x="2001" y="250"/>
                      </a:lnTo>
                      <a:lnTo>
                        <a:pt x="1964" y="266"/>
                      </a:lnTo>
                      <a:lnTo>
                        <a:pt x="1956" y="293"/>
                      </a:lnTo>
                      <a:lnTo>
                        <a:pt x="2001" y="318"/>
                      </a:lnTo>
                      <a:lnTo>
                        <a:pt x="2032" y="353"/>
                      </a:lnTo>
                      <a:lnTo>
                        <a:pt x="2050" y="396"/>
                      </a:lnTo>
                      <a:lnTo>
                        <a:pt x="2031" y="403"/>
                      </a:lnTo>
                      <a:lnTo>
                        <a:pt x="1984" y="388"/>
                      </a:lnTo>
                      <a:lnTo>
                        <a:pt x="1937" y="355"/>
                      </a:lnTo>
                      <a:lnTo>
                        <a:pt x="1917" y="335"/>
                      </a:lnTo>
                      <a:lnTo>
                        <a:pt x="1907" y="308"/>
                      </a:lnTo>
                      <a:lnTo>
                        <a:pt x="1893" y="273"/>
                      </a:lnTo>
                      <a:lnTo>
                        <a:pt x="1876" y="258"/>
                      </a:lnTo>
                      <a:lnTo>
                        <a:pt x="1856" y="258"/>
                      </a:lnTo>
                      <a:lnTo>
                        <a:pt x="1842" y="262"/>
                      </a:lnTo>
                      <a:lnTo>
                        <a:pt x="1862" y="293"/>
                      </a:lnTo>
                      <a:lnTo>
                        <a:pt x="1813" y="297"/>
                      </a:lnTo>
                      <a:lnTo>
                        <a:pt x="1794" y="281"/>
                      </a:lnTo>
                      <a:lnTo>
                        <a:pt x="1755" y="285"/>
                      </a:lnTo>
                      <a:lnTo>
                        <a:pt x="1724" y="312"/>
                      </a:lnTo>
                      <a:lnTo>
                        <a:pt x="1724" y="322"/>
                      </a:lnTo>
                      <a:lnTo>
                        <a:pt x="1738" y="347"/>
                      </a:lnTo>
                      <a:lnTo>
                        <a:pt x="1783" y="353"/>
                      </a:lnTo>
                      <a:lnTo>
                        <a:pt x="1820" y="376"/>
                      </a:lnTo>
                      <a:lnTo>
                        <a:pt x="1886" y="444"/>
                      </a:lnTo>
                      <a:lnTo>
                        <a:pt x="1912" y="491"/>
                      </a:lnTo>
                      <a:lnTo>
                        <a:pt x="1914" y="537"/>
                      </a:lnTo>
                      <a:lnTo>
                        <a:pt x="1909" y="574"/>
                      </a:lnTo>
                      <a:lnTo>
                        <a:pt x="1893" y="574"/>
                      </a:lnTo>
                      <a:lnTo>
                        <a:pt x="1876" y="562"/>
                      </a:lnTo>
                      <a:lnTo>
                        <a:pt x="1851" y="580"/>
                      </a:lnTo>
                      <a:lnTo>
                        <a:pt x="1827" y="599"/>
                      </a:lnTo>
                      <a:lnTo>
                        <a:pt x="1825" y="628"/>
                      </a:lnTo>
                      <a:lnTo>
                        <a:pt x="1849" y="659"/>
                      </a:lnTo>
                      <a:lnTo>
                        <a:pt x="1835" y="686"/>
                      </a:lnTo>
                      <a:lnTo>
                        <a:pt x="1827" y="731"/>
                      </a:lnTo>
                      <a:lnTo>
                        <a:pt x="1862" y="762"/>
                      </a:lnTo>
                      <a:lnTo>
                        <a:pt x="1895" y="768"/>
                      </a:lnTo>
                      <a:lnTo>
                        <a:pt x="1933" y="801"/>
                      </a:lnTo>
                      <a:lnTo>
                        <a:pt x="1964" y="842"/>
                      </a:lnTo>
                      <a:lnTo>
                        <a:pt x="1968" y="906"/>
                      </a:lnTo>
                      <a:lnTo>
                        <a:pt x="1957" y="935"/>
                      </a:lnTo>
                      <a:lnTo>
                        <a:pt x="1921" y="958"/>
                      </a:lnTo>
                      <a:lnTo>
                        <a:pt x="1881" y="971"/>
                      </a:lnTo>
                      <a:lnTo>
                        <a:pt x="1855" y="991"/>
                      </a:lnTo>
                      <a:lnTo>
                        <a:pt x="1837" y="983"/>
                      </a:lnTo>
                      <a:lnTo>
                        <a:pt x="1827" y="991"/>
                      </a:lnTo>
                      <a:lnTo>
                        <a:pt x="1823" y="1039"/>
                      </a:lnTo>
                      <a:lnTo>
                        <a:pt x="1832" y="1061"/>
                      </a:lnTo>
                      <a:lnTo>
                        <a:pt x="1874" y="1090"/>
                      </a:lnTo>
                      <a:lnTo>
                        <a:pt x="1888" y="1125"/>
                      </a:lnTo>
                      <a:lnTo>
                        <a:pt x="1905" y="1144"/>
                      </a:lnTo>
                      <a:lnTo>
                        <a:pt x="1902" y="1177"/>
                      </a:lnTo>
                      <a:lnTo>
                        <a:pt x="1874" y="1200"/>
                      </a:lnTo>
                      <a:lnTo>
                        <a:pt x="1844" y="1200"/>
                      </a:lnTo>
                      <a:lnTo>
                        <a:pt x="1799" y="1165"/>
                      </a:lnTo>
                      <a:lnTo>
                        <a:pt x="1764" y="1146"/>
                      </a:lnTo>
                      <a:lnTo>
                        <a:pt x="1755" y="1142"/>
                      </a:lnTo>
                      <a:lnTo>
                        <a:pt x="1741" y="1163"/>
                      </a:lnTo>
                      <a:lnTo>
                        <a:pt x="1745" y="1191"/>
                      </a:lnTo>
                      <a:lnTo>
                        <a:pt x="1757" y="1214"/>
                      </a:lnTo>
                      <a:lnTo>
                        <a:pt x="1762" y="1247"/>
                      </a:lnTo>
                      <a:lnTo>
                        <a:pt x="1792" y="1262"/>
                      </a:lnTo>
                      <a:lnTo>
                        <a:pt x="1783" y="1282"/>
                      </a:lnTo>
                      <a:lnTo>
                        <a:pt x="1787" y="1309"/>
                      </a:lnTo>
                      <a:lnTo>
                        <a:pt x="1794" y="1336"/>
                      </a:lnTo>
                      <a:lnTo>
                        <a:pt x="1774" y="1330"/>
                      </a:lnTo>
                      <a:lnTo>
                        <a:pt x="1755" y="1303"/>
                      </a:lnTo>
                      <a:lnTo>
                        <a:pt x="1757" y="1268"/>
                      </a:lnTo>
                      <a:lnTo>
                        <a:pt x="1748" y="1260"/>
                      </a:lnTo>
                      <a:lnTo>
                        <a:pt x="1741" y="1220"/>
                      </a:lnTo>
                      <a:lnTo>
                        <a:pt x="1731" y="1210"/>
                      </a:lnTo>
                      <a:lnTo>
                        <a:pt x="1726" y="1156"/>
                      </a:lnTo>
                      <a:lnTo>
                        <a:pt x="1713" y="1125"/>
                      </a:lnTo>
                      <a:lnTo>
                        <a:pt x="1689" y="1094"/>
                      </a:lnTo>
                      <a:lnTo>
                        <a:pt x="1649" y="1080"/>
                      </a:lnTo>
                      <a:lnTo>
                        <a:pt x="1618" y="1051"/>
                      </a:lnTo>
                      <a:lnTo>
                        <a:pt x="1605" y="1032"/>
                      </a:lnTo>
                      <a:lnTo>
                        <a:pt x="1584" y="1008"/>
                      </a:lnTo>
                      <a:lnTo>
                        <a:pt x="1553" y="956"/>
                      </a:lnTo>
                      <a:lnTo>
                        <a:pt x="1523" y="962"/>
                      </a:lnTo>
                      <a:lnTo>
                        <a:pt x="1485" y="985"/>
                      </a:lnTo>
                      <a:lnTo>
                        <a:pt x="1469" y="1006"/>
                      </a:lnTo>
                      <a:lnTo>
                        <a:pt x="1435" y="1047"/>
                      </a:lnTo>
                      <a:lnTo>
                        <a:pt x="1414" y="1088"/>
                      </a:lnTo>
                      <a:lnTo>
                        <a:pt x="1401" y="1103"/>
                      </a:lnTo>
                      <a:lnTo>
                        <a:pt x="1414" y="1150"/>
                      </a:lnTo>
                      <a:lnTo>
                        <a:pt x="1408" y="1200"/>
                      </a:lnTo>
                      <a:lnTo>
                        <a:pt x="1382" y="1233"/>
                      </a:lnTo>
                      <a:lnTo>
                        <a:pt x="1360" y="1235"/>
                      </a:lnTo>
                      <a:lnTo>
                        <a:pt x="1326" y="1169"/>
                      </a:lnTo>
                      <a:lnTo>
                        <a:pt x="1300" y="1121"/>
                      </a:lnTo>
                      <a:lnTo>
                        <a:pt x="1241" y="1024"/>
                      </a:lnTo>
                      <a:lnTo>
                        <a:pt x="1238" y="991"/>
                      </a:lnTo>
                      <a:lnTo>
                        <a:pt x="1225" y="975"/>
                      </a:lnTo>
                      <a:lnTo>
                        <a:pt x="1218" y="997"/>
                      </a:lnTo>
                      <a:lnTo>
                        <a:pt x="1170" y="944"/>
                      </a:lnTo>
                      <a:lnTo>
                        <a:pt x="1102" y="906"/>
                      </a:lnTo>
                      <a:lnTo>
                        <a:pt x="1058" y="915"/>
                      </a:lnTo>
                      <a:lnTo>
                        <a:pt x="1001" y="909"/>
                      </a:lnTo>
                      <a:lnTo>
                        <a:pt x="969" y="880"/>
                      </a:lnTo>
                      <a:lnTo>
                        <a:pt x="938" y="888"/>
                      </a:lnTo>
                      <a:lnTo>
                        <a:pt x="894" y="873"/>
                      </a:lnTo>
                      <a:lnTo>
                        <a:pt x="800" y="770"/>
                      </a:lnTo>
                      <a:lnTo>
                        <a:pt x="802" y="812"/>
                      </a:lnTo>
                      <a:lnTo>
                        <a:pt x="831" y="871"/>
                      </a:lnTo>
                      <a:lnTo>
                        <a:pt x="863" y="909"/>
                      </a:lnTo>
                      <a:lnTo>
                        <a:pt x="899" y="927"/>
                      </a:lnTo>
                      <a:lnTo>
                        <a:pt x="936" y="915"/>
                      </a:lnTo>
                      <a:lnTo>
                        <a:pt x="967" y="915"/>
                      </a:lnTo>
                      <a:lnTo>
                        <a:pt x="1006" y="950"/>
                      </a:lnTo>
                      <a:lnTo>
                        <a:pt x="1027" y="975"/>
                      </a:lnTo>
                      <a:lnTo>
                        <a:pt x="1025" y="991"/>
                      </a:lnTo>
                      <a:lnTo>
                        <a:pt x="957" y="1070"/>
                      </a:lnTo>
                      <a:lnTo>
                        <a:pt x="913" y="1096"/>
                      </a:lnTo>
                      <a:lnTo>
                        <a:pt x="818" y="1138"/>
                      </a:lnTo>
                      <a:lnTo>
                        <a:pt x="790" y="1146"/>
                      </a:lnTo>
                      <a:lnTo>
                        <a:pt x="770" y="1138"/>
                      </a:lnTo>
                      <a:lnTo>
                        <a:pt x="767" y="1121"/>
                      </a:lnTo>
                      <a:lnTo>
                        <a:pt x="763" y="1096"/>
                      </a:lnTo>
                      <a:lnTo>
                        <a:pt x="756" y="1076"/>
                      </a:lnTo>
                      <a:lnTo>
                        <a:pt x="743" y="1055"/>
                      </a:lnTo>
                      <a:lnTo>
                        <a:pt x="730" y="1039"/>
                      </a:lnTo>
                      <a:lnTo>
                        <a:pt x="716" y="1018"/>
                      </a:lnTo>
                      <a:lnTo>
                        <a:pt x="704" y="1004"/>
                      </a:lnTo>
                      <a:lnTo>
                        <a:pt x="699" y="985"/>
                      </a:lnTo>
                      <a:lnTo>
                        <a:pt x="685" y="966"/>
                      </a:lnTo>
                      <a:lnTo>
                        <a:pt x="662" y="927"/>
                      </a:lnTo>
                      <a:lnTo>
                        <a:pt x="650" y="909"/>
                      </a:lnTo>
                      <a:lnTo>
                        <a:pt x="638" y="890"/>
                      </a:lnTo>
                      <a:lnTo>
                        <a:pt x="612" y="853"/>
                      </a:lnTo>
                      <a:lnTo>
                        <a:pt x="598" y="836"/>
                      </a:lnTo>
                      <a:lnTo>
                        <a:pt x="587" y="822"/>
                      </a:lnTo>
                      <a:lnTo>
                        <a:pt x="573" y="797"/>
                      </a:lnTo>
                      <a:lnTo>
                        <a:pt x="614" y="770"/>
                      </a:lnTo>
                      <a:lnTo>
                        <a:pt x="631" y="719"/>
                      </a:lnTo>
                      <a:lnTo>
                        <a:pt x="594" y="704"/>
                      </a:lnTo>
                      <a:lnTo>
                        <a:pt x="542" y="708"/>
                      </a:lnTo>
                      <a:lnTo>
                        <a:pt x="528" y="706"/>
                      </a:lnTo>
                      <a:lnTo>
                        <a:pt x="523" y="706"/>
                      </a:lnTo>
                      <a:lnTo>
                        <a:pt x="516" y="706"/>
                      </a:lnTo>
                      <a:lnTo>
                        <a:pt x="511" y="706"/>
                      </a:lnTo>
                      <a:lnTo>
                        <a:pt x="507" y="694"/>
                      </a:lnTo>
                      <a:lnTo>
                        <a:pt x="505" y="686"/>
                      </a:lnTo>
                      <a:lnTo>
                        <a:pt x="505" y="671"/>
                      </a:lnTo>
                      <a:lnTo>
                        <a:pt x="493" y="663"/>
                      </a:lnTo>
                      <a:lnTo>
                        <a:pt x="493" y="653"/>
                      </a:lnTo>
                      <a:lnTo>
                        <a:pt x="486" y="650"/>
                      </a:lnTo>
                      <a:lnTo>
                        <a:pt x="481" y="640"/>
                      </a:lnTo>
                      <a:lnTo>
                        <a:pt x="479" y="632"/>
                      </a:lnTo>
                      <a:lnTo>
                        <a:pt x="476" y="626"/>
                      </a:lnTo>
                      <a:lnTo>
                        <a:pt x="472" y="619"/>
                      </a:lnTo>
                      <a:lnTo>
                        <a:pt x="462" y="619"/>
                      </a:lnTo>
                      <a:lnTo>
                        <a:pt x="450" y="619"/>
                      </a:lnTo>
                      <a:lnTo>
                        <a:pt x="448" y="619"/>
                      </a:lnTo>
                      <a:lnTo>
                        <a:pt x="444" y="628"/>
                      </a:lnTo>
                      <a:lnTo>
                        <a:pt x="444" y="640"/>
                      </a:lnTo>
                      <a:lnTo>
                        <a:pt x="444" y="653"/>
                      </a:lnTo>
                      <a:lnTo>
                        <a:pt x="444" y="665"/>
                      </a:lnTo>
                      <a:lnTo>
                        <a:pt x="444" y="675"/>
                      </a:lnTo>
                      <a:lnTo>
                        <a:pt x="438" y="677"/>
                      </a:lnTo>
                      <a:lnTo>
                        <a:pt x="431" y="686"/>
                      </a:lnTo>
                      <a:lnTo>
                        <a:pt x="422" y="675"/>
                      </a:lnTo>
                      <a:lnTo>
                        <a:pt x="411" y="657"/>
                      </a:lnTo>
                      <a:lnTo>
                        <a:pt x="411" y="638"/>
                      </a:lnTo>
                      <a:lnTo>
                        <a:pt x="403" y="611"/>
                      </a:lnTo>
                      <a:lnTo>
                        <a:pt x="394" y="595"/>
                      </a:lnTo>
                      <a:lnTo>
                        <a:pt x="382" y="584"/>
                      </a:lnTo>
                      <a:lnTo>
                        <a:pt x="368" y="574"/>
                      </a:lnTo>
                      <a:lnTo>
                        <a:pt x="361" y="560"/>
                      </a:lnTo>
                      <a:lnTo>
                        <a:pt x="354" y="547"/>
                      </a:lnTo>
                      <a:lnTo>
                        <a:pt x="343" y="545"/>
                      </a:lnTo>
                      <a:lnTo>
                        <a:pt x="340" y="543"/>
                      </a:lnTo>
                      <a:lnTo>
                        <a:pt x="328" y="543"/>
                      </a:lnTo>
                      <a:lnTo>
                        <a:pt x="319" y="549"/>
                      </a:lnTo>
                      <a:lnTo>
                        <a:pt x="312" y="560"/>
                      </a:lnTo>
                      <a:lnTo>
                        <a:pt x="329" y="572"/>
                      </a:lnTo>
                      <a:lnTo>
                        <a:pt x="342" y="584"/>
                      </a:lnTo>
                      <a:lnTo>
                        <a:pt x="356" y="601"/>
                      </a:lnTo>
                      <a:lnTo>
                        <a:pt x="363" y="611"/>
                      </a:lnTo>
                      <a:lnTo>
                        <a:pt x="378" y="619"/>
                      </a:lnTo>
                      <a:lnTo>
                        <a:pt x="387" y="632"/>
                      </a:lnTo>
                      <a:lnTo>
                        <a:pt x="378" y="646"/>
                      </a:lnTo>
                      <a:lnTo>
                        <a:pt x="371" y="640"/>
                      </a:lnTo>
                      <a:lnTo>
                        <a:pt x="371" y="632"/>
                      </a:lnTo>
                      <a:lnTo>
                        <a:pt x="368" y="653"/>
                      </a:lnTo>
                      <a:lnTo>
                        <a:pt x="366" y="667"/>
                      </a:lnTo>
                      <a:lnTo>
                        <a:pt x="354" y="673"/>
                      </a:lnTo>
                      <a:lnTo>
                        <a:pt x="359" y="653"/>
                      </a:lnTo>
                      <a:lnTo>
                        <a:pt x="356" y="640"/>
                      </a:lnTo>
                      <a:lnTo>
                        <a:pt x="347" y="632"/>
                      </a:lnTo>
                      <a:lnTo>
                        <a:pt x="340" y="628"/>
                      </a:lnTo>
                      <a:lnTo>
                        <a:pt x="331" y="624"/>
                      </a:lnTo>
                      <a:lnTo>
                        <a:pt x="319" y="617"/>
                      </a:lnTo>
                      <a:lnTo>
                        <a:pt x="312" y="605"/>
                      </a:lnTo>
                      <a:lnTo>
                        <a:pt x="305" y="599"/>
                      </a:lnTo>
                      <a:lnTo>
                        <a:pt x="296" y="591"/>
                      </a:lnTo>
                      <a:lnTo>
                        <a:pt x="288" y="580"/>
                      </a:lnTo>
                      <a:lnTo>
                        <a:pt x="288" y="570"/>
                      </a:lnTo>
                      <a:lnTo>
                        <a:pt x="281" y="568"/>
                      </a:lnTo>
                      <a:lnTo>
                        <a:pt x="272" y="555"/>
                      </a:lnTo>
                      <a:lnTo>
                        <a:pt x="260" y="555"/>
                      </a:lnTo>
                      <a:lnTo>
                        <a:pt x="244" y="560"/>
                      </a:lnTo>
                      <a:lnTo>
                        <a:pt x="232" y="555"/>
                      </a:lnTo>
                      <a:lnTo>
                        <a:pt x="204" y="560"/>
                      </a:lnTo>
                      <a:lnTo>
                        <a:pt x="187" y="562"/>
                      </a:lnTo>
                      <a:lnTo>
                        <a:pt x="180" y="568"/>
                      </a:lnTo>
                      <a:lnTo>
                        <a:pt x="180" y="580"/>
                      </a:lnTo>
                      <a:lnTo>
                        <a:pt x="180" y="595"/>
                      </a:lnTo>
                      <a:lnTo>
                        <a:pt x="167" y="605"/>
                      </a:lnTo>
                      <a:lnTo>
                        <a:pt x="160" y="615"/>
                      </a:lnTo>
                      <a:lnTo>
                        <a:pt x="155" y="619"/>
                      </a:lnTo>
                      <a:lnTo>
                        <a:pt x="148" y="628"/>
                      </a:lnTo>
                      <a:lnTo>
                        <a:pt x="145" y="638"/>
                      </a:lnTo>
                      <a:lnTo>
                        <a:pt x="153" y="644"/>
                      </a:lnTo>
                      <a:lnTo>
                        <a:pt x="153" y="657"/>
                      </a:lnTo>
                      <a:lnTo>
                        <a:pt x="148" y="663"/>
                      </a:lnTo>
                      <a:lnTo>
                        <a:pt x="145" y="673"/>
                      </a:lnTo>
                      <a:lnTo>
                        <a:pt x="138" y="686"/>
                      </a:lnTo>
                      <a:lnTo>
                        <a:pt x="129" y="679"/>
                      </a:lnTo>
                      <a:lnTo>
                        <a:pt x="124" y="683"/>
                      </a:lnTo>
                      <a:lnTo>
                        <a:pt x="119" y="688"/>
                      </a:lnTo>
                      <a:lnTo>
                        <a:pt x="106" y="692"/>
                      </a:lnTo>
                      <a:lnTo>
                        <a:pt x="94" y="704"/>
                      </a:lnTo>
                      <a:lnTo>
                        <a:pt x="82" y="706"/>
                      </a:lnTo>
                      <a:lnTo>
                        <a:pt x="71" y="706"/>
                      </a:lnTo>
                      <a:lnTo>
                        <a:pt x="61" y="706"/>
                      </a:lnTo>
                      <a:lnTo>
                        <a:pt x="37" y="708"/>
                      </a:lnTo>
                      <a:lnTo>
                        <a:pt x="24" y="708"/>
                      </a:lnTo>
                      <a:lnTo>
                        <a:pt x="17" y="694"/>
                      </a:lnTo>
                      <a:lnTo>
                        <a:pt x="16" y="677"/>
                      </a:lnTo>
                      <a:lnTo>
                        <a:pt x="10" y="663"/>
                      </a:lnTo>
                      <a:lnTo>
                        <a:pt x="10" y="644"/>
                      </a:lnTo>
                      <a:lnTo>
                        <a:pt x="10" y="626"/>
                      </a:lnTo>
                      <a:lnTo>
                        <a:pt x="0" y="599"/>
                      </a:lnTo>
                    </a:path>
                  </a:pathLst>
                </a:custGeom>
                <a:solidFill>
                  <a:srgbClr val="dd9bab">
                    <a:alpha val="50000"/>
                  </a:srgbClr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99960" y="2476440"/>
                  <a:ext cx="1941480" cy="1834920"/>
                </a:xfrm>
                <a:custGeom>
                  <a:avLst/>
                  <a:gdLst/>
                  <a:ahLst/>
                  <a:rect l="l" t="t" r="r" b="b"/>
                  <a:pathLst>
                    <a:path w="1223" h="1156">
                      <a:moveTo>
                        <a:pt x="0" y="297"/>
                      </a:moveTo>
                      <a:lnTo>
                        <a:pt x="57" y="256"/>
                      </a:lnTo>
                      <a:lnTo>
                        <a:pt x="90" y="241"/>
                      </a:lnTo>
                      <a:lnTo>
                        <a:pt x="95" y="219"/>
                      </a:lnTo>
                      <a:lnTo>
                        <a:pt x="69" y="202"/>
                      </a:lnTo>
                      <a:lnTo>
                        <a:pt x="66" y="173"/>
                      </a:lnTo>
                      <a:lnTo>
                        <a:pt x="78" y="167"/>
                      </a:lnTo>
                      <a:lnTo>
                        <a:pt x="76" y="151"/>
                      </a:lnTo>
                      <a:lnTo>
                        <a:pt x="120" y="146"/>
                      </a:lnTo>
                      <a:lnTo>
                        <a:pt x="134" y="126"/>
                      </a:lnTo>
                      <a:lnTo>
                        <a:pt x="137" y="103"/>
                      </a:lnTo>
                      <a:lnTo>
                        <a:pt x="172" y="97"/>
                      </a:lnTo>
                      <a:lnTo>
                        <a:pt x="177" y="80"/>
                      </a:lnTo>
                      <a:lnTo>
                        <a:pt x="139" y="68"/>
                      </a:lnTo>
                      <a:lnTo>
                        <a:pt x="158" y="58"/>
                      </a:lnTo>
                      <a:lnTo>
                        <a:pt x="215" y="58"/>
                      </a:lnTo>
                      <a:lnTo>
                        <a:pt x="233" y="41"/>
                      </a:lnTo>
                      <a:lnTo>
                        <a:pt x="259" y="37"/>
                      </a:lnTo>
                      <a:lnTo>
                        <a:pt x="274" y="23"/>
                      </a:lnTo>
                      <a:lnTo>
                        <a:pt x="293" y="47"/>
                      </a:lnTo>
                      <a:lnTo>
                        <a:pt x="363" y="45"/>
                      </a:lnTo>
                      <a:lnTo>
                        <a:pt x="399" y="68"/>
                      </a:lnTo>
                      <a:lnTo>
                        <a:pt x="509" y="62"/>
                      </a:lnTo>
                      <a:lnTo>
                        <a:pt x="524" y="50"/>
                      </a:lnTo>
                      <a:lnTo>
                        <a:pt x="566" y="68"/>
                      </a:lnTo>
                      <a:lnTo>
                        <a:pt x="609" y="91"/>
                      </a:lnTo>
                      <a:lnTo>
                        <a:pt x="632" y="83"/>
                      </a:lnTo>
                      <a:lnTo>
                        <a:pt x="644" y="68"/>
                      </a:lnTo>
                      <a:lnTo>
                        <a:pt x="680" y="80"/>
                      </a:lnTo>
                      <a:lnTo>
                        <a:pt x="656" y="62"/>
                      </a:lnTo>
                      <a:lnTo>
                        <a:pt x="634" y="64"/>
                      </a:lnTo>
                      <a:lnTo>
                        <a:pt x="597" y="68"/>
                      </a:lnTo>
                      <a:lnTo>
                        <a:pt x="583" y="47"/>
                      </a:lnTo>
                      <a:lnTo>
                        <a:pt x="564" y="37"/>
                      </a:lnTo>
                      <a:lnTo>
                        <a:pt x="564" y="19"/>
                      </a:lnTo>
                      <a:lnTo>
                        <a:pt x="566" y="2"/>
                      </a:lnTo>
                      <a:lnTo>
                        <a:pt x="587" y="0"/>
                      </a:lnTo>
                      <a:lnTo>
                        <a:pt x="606" y="17"/>
                      </a:lnTo>
                      <a:lnTo>
                        <a:pt x="609" y="6"/>
                      </a:lnTo>
                      <a:lnTo>
                        <a:pt x="628" y="0"/>
                      </a:lnTo>
                      <a:lnTo>
                        <a:pt x="649" y="12"/>
                      </a:lnTo>
                      <a:lnTo>
                        <a:pt x="660" y="2"/>
                      </a:lnTo>
                      <a:lnTo>
                        <a:pt x="670" y="17"/>
                      </a:lnTo>
                      <a:lnTo>
                        <a:pt x="672" y="33"/>
                      </a:lnTo>
                      <a:lnTo>
                        <a:pt x="703" y="45"/>
                      </a:lnTo>
                      <a:lnTo>
                        <a:pt x="689" y="58"/>
                      </a:lnTo>
                      <a:lnTo>
                        <a:pt x="689" y="74"/>
                      </a:lnTo>
                      <a:lnTo>
                        <a:pt x="743" y="80"/>
                      </a:lnTo>
                      <a:lnTo>
                        <a:pt x="757" y="58"/>
                      </a:lnTo>
                      <a:lnTo>
                        <a:pt x="746" y="45"/>
                      </a:lnTo>
                      <a:lnTo>
                        <a:pt x="722" y="47"/>
                      </a:lnTo>
                      <a:lnTo>
                        <a:pt x="727" y="23"/>
                      </a:lnTo>
                      <a:lnTo>
                        <a:pt x="774" y="37"/>
                      </a:lnTo>
                      <a:lnTo>
                        <a:pt x="785" y="56"/>
                      </a:lnTo>
                      <a:lnTo>
                        <a:pt x="825" y="56"/>
                      </a:lnTo>
                      <a:lnTo>
                        <a:pt x="857" y="76"/>
                      </a:lnTo>
                      <a:lnTo>
                        <a:pt x="877" y="68"/>
                      </a:lnTo>
                      <a:lnTo>
                        <a:pt x="896" y="91"/>
                      </a:lnTo>
                      <a:lnTo>
                        <a:pt x="877" y="111"/>
                      </a:lnTo>
                      <a:lnTo>
                        <a:pt x="857" y="95"/>
                      </a:lnTo>
                      <a:lnTo>
                        <a:pt x="847" y="101"/>
                      </a:lnTo>
                      <a:lnTo>
                        <a:pt x="831" y="116"/>
                      </a:lnTo>
                      <a:lnTo>
                        <a:pt x="807" y="130"/>
                      </a:lnTo>
                      <a:lnTo>
                        <a:pt x="821" y="146"/>
                      </a:lnTo>
                      <a:lnTo>
                        <a:pt x="797" y="149"/>
                      </a:lnTo>
                      <a:lnTo>
                        <a:pt x="781" y="175"/>
                      </a:lnTo>
                      <a:lnTo>
                        <a:pt x="759" y="204"/>
                      </a:lnTo>
                      <a:lnTo>
                        <a:pt x="790" y="233"/>
                      </a:lnTo>
                      <a:lnTo>
                        <a:pt x="809" y="264"/>
                      </a:lnTo>
                      <a:lnTo>
                        <a:pt x="852" y="270"/>
                      </a:lnTo>
                      <a:lnTo>
                        <a:pt x="890" y="264"/>
                      </a:lnTo>
                      <a:lnTo>
                        <a:pt x="908" y="278"/>
                      </a:lnTo>
                      <a:lnTo>
                        <a:pt x="896" y="289"/>
                      </a:lnTo>
                      <a:lnTo>
                        <a:pt x="889" y="305"/>
                      </a:lnTo>
                      <a:lnTo>
                        <a:pt x="906" y="332"/>
                      </a:lnTo>
                      <a:lnTo>
                        <a:pt x="910" y="359"/>
                      </a:lnTo>
                      <a:lnTo>
                        <a:pt x="932" y="365"/>
                      </a:lnTo>
                      <a:lnTo>
                        <a:pt x="962" y="344"/>
                      </a:lnTo>
                      <a:lnTo>
                        <a:pt x="953" y="318"/>
                      </a:lnTo>
                      <a:lnTo>
                        <a:pt x="927" y="297"/>
                      </a:lnTo>
                      <a:lnTo>
                        <a:pt x="956" y="270"/>
                      </a:lnTo>
                      <a:lnTo>
                        <a:pt x="932" y="223"/>
                      </a:lnTo>
                      <a:lnTo>
                        <a:pt x="910" y="204"/>
                      </a:lnTo>
                      <a:lnTo>
                        <a:pt x="927" y="188"/>
                      </a:lnTo>
                      <a:lnTo>
                        <a:pt x="922" y="167"/>
                      </a:lnTo>
                      <a:lnTo>
                        <a:pt x="937" y="149"/>
                      </a:lnTo>
                      <a:lnTo>
                        <a:pt x="962" y="167"/>
                      </a:lnTo>
                      <a:lnTo>
                        <a:pt x="1014" y="221"/>
                      </a:lnTo>
                      <a:lnTo>
                        <a:pt x="1045" y="227"/>
                      </a:lnTo>
                      <a:lnTo>
                        <a:pt x="1052" y="215"/>
                      </a:lnTo>
                      <a:lnTo>
                        <a:pt x="1045" y="184"/>
                      </a:lnTo>
                      <a:lnTo>
                        <a:pt x="1066" y="188"/>
                      </a:lnTo>
                      <a:lnTo>
                        <a:pt x="1095" y="223"/>
                      </a:lnTo>
                      <a:lnTo>
                        <a:pt x="1100" y="239"/>
                      </a:lnTo>
                      <a:lnTo>
                        <a:pt x="1121" y="250"/>
                      </a:lnTo>
                      <a:lnTo>
                        <a:pt x="1160" y="268"/>
                      </a:lnTo>
                      <a:lnTo>
                        <a:pt x="1177" y="291"/>
                      </a:lnTo>
                      <a:lnTo>
                        <a:pt x="1206" y="309"/>
                      </a:lnTo>
                      <a:lnTo>
                        <a:pt x="1220" y="318"/>
                      </a:lnTo>
                      <a:lnTo>
                        <a:pt x="1222" y="332"/>
                      </a:lnTo>
                      <a:lnTo>
                        <a:pt x="1201" y="342"/>
                      </a:lnTo>
                      <a:lnTo>
                        <a:pt x="1189" y="332"/>
                      </a:lnTo>
                      <a:lnTo>
                        <a:pt x="1175" y="332"/>
                      </a:lnTo>
                      <a:lnTo>
                        <a:pt x="1170" y="361"/>
                      </a:lnTo>
                      <a:lnTo>
                        <a:pt x="1153" y="365"/>
                      </a:lnTo>
                      <a:lnTo>
                        <a:pt x="1133" y="353"/>
                      </a:lnTo>
                      <a:lnTo>
                        <a:pt x="1090" y="353"/>
                      </a:lnTo>
                      <a:lnTo>
                        <a:pt x="1083" y="386"/>
                      </a:lnTo>
                      <a:lnTo>
                        <a:pt x="1095" y="402"/>
                      </a:lnTo>
                      <a:lnTo>
                        <a:pt x="1114" y="390"/>
                      </a:lnTo>
                      <a:lnTo>
                        <a:pt x="1128" y="386"/>
                      </a:lnTo>
                      <a:lnTo>
                        <a:pt x="1144" y="400"/>
                      </a:lnTo>
                      <a:lnTo>
                        <a:pt x="1121" y="419"/>
                      </a:lnTo>
                      <a:lnTo>
                        <a:pt x="1144" y="439"/>
                      </a:lnTo>
                      <a:lnTo>
                        <a:pt x="1175" y="448"/>
                      </a:lnTo>
                      <a:lnTo>
                        <a:pt x="1170" y="462"/>
                      </a:lnTo>
                      <a:lnTo>
                        <a:pt x="1163" y="464"/>
                      </a:lnTo>
                      <a:lnTo>
                        <a:pt x="1133" y="532"/>
                      </a:lnTo>
                      <a:lnTo>
                        <a:pt x="1133" y="489"/>
                      </a:lnTo>
                      <a:lnTo>
                        <a:pt x="1149" y="466"/>
                      </a:lnTo>
                      <a:lnTo>
                        <a:pt x="1133" y="454"/>
                      </a:lnTo>
                      <a:lnTo>
                        <a:pt x="1118" y="466"/>
                      </a:lnTo>
                      <a:lnTo>
                        <a:pt x="1127" y="481"/>
                      </a:lnTo>
                      <a:lnTo>
                        <a:pt x="1114" y="491"/>
                      </a:lnTo>
                      <a:lnTo>
                        <a:pt x="1097" y="501"/>
                      </a:lnTo>
                      <a:lnTo>
                        <a:pt x="1100" y="526"/>
                      </a:lnTo>
                      <a:lnTo>
                        <a:pt x="1083" y="540"/>
                      </a:lnTo>
                      <a:lnTo>
                        <a:pt x="1055" y="547"/>
                      </a:lnTo>
                      <a:lnTo>
                        <a:pt x="1066" y="561"/>
                      </a:lnTo>
                      <a:lnTo>
                        <a:pt x="1055" y="580"/>
                      </a:lnTo>
                      <a:lnTo>
                        <a:pt x="1066" y="596"/>
                      </a:lnTo>
                      <a:lnTo>
                        <a:pt x="1050" y="627"/>
                      </a:lnTo>
                      <a:lnTo>
                        <a:pt x="1045" y="654"/>
                      </a:lnTo>
                      <a:lnTo>
                        <a:pt x="1021" y="674"/>
                      </a:lnTo>
                      <a:lnTo>
                        <a:pt x="993" y="718"/>
                      </a:lnTo>
                      <a:lnTo>
                        <a:pt x="993" y="745"/>
                      </a:lnTo>
                      <a:lnTo>
                        <a:pt x="1000" y="773"/>
                      </a:lnTo>
                      <a:lnTo>
                        <a:pt x="1014" y="809"/>
                      </a:lnTo>
                      <a:lnTo>
                        <a:pt x="1019" y="837"/>
                      </a:lnTo>
                      <a:lnTo>
                        <a:pt x="1007" y="850"/>
                      </a:lnTo>
                      <a:lnTo>
                        <a:pt x="993" y="842"/>
                      </a:lnTo>
                      <a:lnTo>
                        <a:pt x="993" y="827"/>
                      </a:lnTo>
                      <a:lnTo>
                        <a:pt x="984" y="786"/>
                      </a:lnTo>
                      <a:lnTo>
                        <a:pt x="970" y="780"/>
                      </a:lnTo>
                      <a:lnTo>
                        <a:pt x="965" y="759"/>
                      </a:lnTo>
                      <a:lnTo>
                        <a:pt x="951" y="759"/>
                      </a:lnTo>
                      <a:lnTo>
                        <a:pt x="932" y="745"/>
                      </a:lnTo>
                      <a:lnTo>
                        <a:pt x="915" y="751"/>
                      </a:lnTo>
                      <a:lnTo>
                        <a:pt x="896" y="738"/>
                      </a:lnTo>
                      <a:lnTo>
                        <a:pt x="877" y="751"/>
                      </a:lnTo>
                      <a:lnTo>
                        <a:pt x="840" y="743"/>
                      </a:lnTo>
                      <a:lnTo>
                        <a:pt x="864" y="771"/>
                      </a:lnTo>
                      <a:lnTo>
                        <a:pt x="831" y="767"/>
                      </a:lnTo>
                      <a:lnTo>
                        <a:pt x="809" y="745"/>
                      </a:lnTo>
                      <a:lnTo>
                        <a:pt x="771" y="745"/>
                      </a:lnTo>
                      <a:lnTo>
                        <a:pt x="781" y="780"/>
                      </a:lnTo>
                      <a:lnTo>
                        <a:pt x="750" y="771"/>
                      </a:lnTo>
                      <a:lnTo>
                        <a:pt x="738" y="809"/>
                      </a:lnTo>
                      <a:lnTo>
                        <a:pt x="746" y="821"/>
                      </a:lnTo>
                      <a:lnTo>
                        <a:pt x="738" y="858"/>
                      </a:lnTo>
                      <a:lnTo>
                        <a:pt x="750" y="905"/>
                      </a:lnTo>
                      <a:lnTo>
                        <a:pt x="764" y="934"/>
                      </a:lnTo>
                      <a:lnTo>
                        <a:pt x="781" y="963"/>
                      </a:lnTo>
                      <a:lnTo>
                        <a:pt x="831" y="961"/>
                      </a:lnTo>
                      <a:lnTo>
                        <a:pt x="852" y="959"/>
                      </a:lnTo>
                      <a:lnTo>
                        <a:pt x="857" y="934"/>
                      </a:lnTo>
                      <a:lnTo>
                        <a:pt x="845" y="918"/>
                      </a:lnTo>
                      <a:lnTo>
                        <a:pt x="847" y="905"/>
                      </a:lnTo>
                      <a:lnTo>
                        <a:pt x="878" y="908"/>
                      </a:lnTo>
                      <a:lnTo>
                        <a:pt x="913" y="903"/>
                      </a:lnTo>
                      <a:lnTo>
                        <a:pt x="913" y="918"/>
                      </a:lnTo>
                      <a:lnTo>
                        <a:pt x="903" y="945"/>
                      </a:lnTo>
                      <a:lnTo>
                        <a:pt x="889" y="967"/>
                      </a:lnTo>
                      <a:lnTo>
                        <a:pt x="884" y="996"/>
                      </a:lnTo>
                      <a:lnTo>
                        <a:pt x="906" y="1009"/>
                      </a:lnTo>
                      <a:lnTo>
                        <a:pt x="932" y="1007"/>
                      </a:lnTo>
                      <a:lnTo>
                        <a:pt x="951" y="1011"/>
                      </a:lnTo>
                      <a:lnTo>
                        <a:pt x="965" y="1011"/>
                      </a:lnTo>
                      <a:lnTo>
                        <a:pt x="970" y="1027"/>
                      </a:lnTo>
                      <a:lnTo>
                        <a:pt x="958" y="1058"/>
                      </a:lnTo>
                      <a:lnTo>
                        <a:pt x="969" y="1073"/>
                      </a:lnTo>
                      <a:lnTo>
                        <a:pt x="970" y="1106"/>
                      </a:lnTo>
                      <a:lnTo>
                        <a:pt x="993" y="1130"/>
                      </a:lnTo>
                      <a:lnTo>
                        <a:pt x="1014" y="1134"/>
                      </a:lnTo>
                      <a:lnTo>
                        <a:pt x="1033" y="1130"/>
                      </a:lnTo>
                      <a:lnTo>
                        <a:pt x="1040" y="1132"/>
                      </a:lnTo>
                      <a:lnTo>
                        <a:pt x="1071" y="1132"/>
                      </a:lnTo>
                      <a:lnTo>
                        <a:pt x="1097" y="1134"/>
                      </a:lnTo>
                      <a:lnTo>
                        <a:pt x="1107" y="1120"/>
                      </a:lnTo>
                      <a:lnTo>
                        <a:pt x="1083" y="1147"/>
                      </a:lnTo>
                      <a:lnTo>
                        <a:pt x="1066" y="1145"/>
                      </a:lnTo>
                      <a:lnTo>
                        <a:pt x="1047" y="1147"/>
                      </a:lnTo>
                      <a:lnTo>
                        <a:pt x="1014" y="1155"/>
                      </a:lnTo>
                      <a:lnTo>
                        <a:pt x="988" y="1141"/>
                      </a:lnTo>
                      <a:lnTo>
                        <a:pt x="962" y="1130"/>
                      </a:lnTo>
                      <a:lnTo>
                        <a:pt x="949" y="1132"/>
                      </a:lnTo>
                      <a:lnTo>
                        <a:pt x="951" y="1118"/>
                      </a:lnTo>
                      <a:lnTo>
                        <a:pt x="949" y="1093"/>
                      </a:lnTo>
                      <a:lnTo>
                        <a:pt x="925" y="1073"/>
                      </a:lnTo>
                      <a:lnTo>
                        <a:pt x="878" y="1062"/>
                      </a:lnTo>
                      <a:lnTo>
                        <a:pt x="871" y="1050"/>
                      </a:lnTo>
                      <a:lnTo>
                        <a:pt x="857" y="1054"/>
                      </a:lnTo>
                      <a:lnTo>
                        <a:pt x="844" y="1044"/>
                      </a:lnTo>
                      <a:lnTo>
                        <a:pt x="826" y="1031"/>
                      </a:lnTo>
                      <a:lnTo>
                        <a:pt x="802" y="1007"/>
                      </a:lnTo>
                      <a:lnTo>
                        <a:pt x="776" y="996"/>
                      </a:lnTo>
                      <a:lnTo>
                        <a:pt x="762" y="1011"/>
                      </a:lnTo>
                      <a:lnTo>
                        <a:pt x="745" y="1000"/>
                      </a:lnTo>
                      <a:lnTo>
                        <a:pt x="722" y="1000"/>
                      </a:lnTo>
                      <a:lnTo>
                        <a:pt x="682" y="990"/>
                      </a:lnTo>
                      <a:lnTo>
                        <a:pt x="606" y="938"/>
                      </a:lnTo>
                      <a:lnTo>
                        <a:pt x="601" y="887"/>
                      </a:lnTo>
                      <a:lnTo>
                        <a:pt x="594" y="868"/>
                      </a:lnTo>
                      <a:lnTo>
                        <a:pt x="581" y="850"/>
                      </a:lnTo>
                      <a:lnTo>
                        <a:pt x="564" y="823"/>
                      </a:lnTo>
                      <a:lnTo>
                        <a:pt x="484" y="724"/>
                      </a:lnTo>
                      <a:lnTo>
                        <a:pt x="484" y="759"/>
                      </a:lnTo>
                      <a:lnTo>
                        <a:pt x="535" y="829"/>
                      </a:lnTo>
                      <a:lnTo>
                        <a:pt x="555" y="883"/>
                      </a:lnTo>
                      <a:lnTo>
                        <a:pt x="524" y="870"/>
                      </a:lnTo>
                      <a:lnTo>
                        <a:pt x="516" y="837"/>
                      </a:lnTo>
                      <a:lnTo>
                        <a:pt x="477" y="817"/>
                      </a:lnTo>
                      <a:lnTo>
                        <a:pt x="502" y="809"/>
                      </a:lnTo>
                      <a:lnTo>
                        <a:pt x="446" y="767"/>
                      </a:lnTo>
                      <a:lnTo>
                        <a:pt x="469" y="745"/>
                      </a:lnTo>
                      <a:lnTo>
                        <a:pt x="451" y="705"/>
                      </a:lnTo>
                      <a:lnTo>
                        <a:pt x="387" y="619"/>
                      </a:lnTo>
                      <a:lnTo>
                        <a:pt x="378" y="571"/>
                      </a:lnTo>
                      <a:lnTo>
                        <a:pt x="382" y="526"/>
                      </a:lnTo>
                      <a:lnTo>
                        <a:pt x="399" y="491"/>
                      </a:lnTo>
                      <a:lnTo>
                        <a:pt x="399" y="448"/>
                      </a:lnTo>
                      <a:lnTo>
                        <a:pt x="387" y="421"/>
                      </a:lnTo>
                      <a:lnTo>
                        <a:pt x="422" y="413"/>
                      </a:lnTo>
                      <a:lnTo>
                        <a:pt x="378" y="365"/>
                      </a:lnTo>
                      <a:lnTo>
                        <a:pt x="382" y="342"/>
                      </a:lnTo>
                      <a:lnTo>
                        <a:pt x="363" y="309"/>
                      </a:lnTo>
                      <a:lnTo>
                        <a:pt x="370" y="291"/>
                      </a:lnTo>
                      <a:lnTo>
                        <a:pt x="356" y="281"/>
                      </a:lnTo>
                      <a:lnTo>
                        <a:pt x="356" y="262"/>
                      </a:lnTo>
                      <a:lnTo>
                        <a:pt x="340" y="243"/>
                      </a:lnTo>
                      <a:lnTo>
                        <a:pt x="356" y="229"/>
                      </a:lnTo>
                      <a:lnTo>
                        <a:pt x="338" y="223"/>
                      </a:lnTo>
                      <a:lnTo>
                        <a:pt x="316" y="235"/>
                      </a:lnTo>
                      <a:lnTo>
                        <a:pt x="295" y="204"/>
                      </a:lnTo>
                      <a:lnTo>
                        <a:pt x="266" y="196"/>
                      </a:lnTo>
                      <a:lnTo>
                        <a:pt x="231" y="196"/>
                      </a:lnTo>
                      <a:lnTo>
                        <a:pt x="207" y="223"/>
                      </a:lnTo>
                      <a:lnTo>
                        <a:pt x="194" y="219"/>
                      </a:lnTo>
                      <a:lnTo>
                        <a:pt x="214" y="179"/>
                      </a:lnTo>
                      <a:lnTo>
                        <a:pt x="194" y="188"/>
                      </a:lnTo>
                      <a:lnTo>
                        <a:pt x="158" y="223"/>
                      </a:lnTo>
                      <a:lnTo>
                        <a:pt x="118" y="256"/>
                      </a:lnTo>
                      <a:lnTo>
                        <a:pt x="83" y="268"/>
                      </a:lnTo>
                      <a:lnTo>
                        <a:pt x="21" y="297"/>
                      </a:lnTo>
                      <a:lnTo>
                        <a:pt x="0" y="297"/>
                      </a:lnTo>
                    </a:path>
                  </a:pathLst>
                </a:custGeom>
                <a:solidFill>
                  <a:srgbClr val="dd9bab">
                    <a:alpha val="50000"/>
                  </a:srgbClr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804680" y="2301840"/>
                  <a:ext cx="652680" cy="463320"/>
                </a:xfrm>
                <a:custGeom>
                  <a:avLst/>
                  <a:gdLst/>
                  <a:ahLst/>
                  <a:rect l="l" t="t" r="r" b="b"/>
                  <a:pathLst>
                    <a:path w="411" h="292">
                      <a:moveTo>
                        <a:pt x="0" y="57"/>
                      </a:moveTo>
                      <a:lnTo>
                        <a:pt x="8" y="38"/>
                      </a:lnTo>
                      <a:lnTo>
                        <a:pt x="8" y="20"/>
                      </a:lnTo>
                      <a:lnTo>
                        <a:pt x="20" y="0"/>
                      </a:lnTo>
                      <a:lnTo>
                        <a:pt x="95" y="12"/>
                      </a:lnTo>
                      <a:lnTo>
                        <a:pt x="222" y="38"/>
                      </a:lnTo>
                      <a:lnTo>
                        <a:pt x="274" y="59"/>
                      </a:lnTo>
                      <a:lnTo>
                        <a:pt x="339" y="79"/>
                      </a:lnTo>
                      <a:lnTo>
                        <a:pt x="374" y="117"/>
                      </a:lnTo>
                      <a:lnTo>
                        <a:pt x="410" y="139"/>
                      </a:lnTo>
                      <a:lnTo>
                        <a:pt x="395" y="150"/>
                      </a:lnTo>
                      <a:lnTo>
                        <a:pt x="395" y="170"/>
                      </a:lnTo>
                      <a:lnTo>
                        <a:pt x="381" y="170"/>
                      </a:lnTo>
                      <a:lnTo>
                        <a:pt x="371" y="190"/>
                      </a:lnTo>
                      <a:lnTo>
                        <a:pt x="381" y="204"/>
                      </a:lnTo>
                      <a:lnTo>
                        <a:pt x="381" y="216"/>
                      </a:lnTo>
                      <a:lnTo>
                        <a:pt x="368" y="236"/>
                      </a:lnTo>
                      <a:lnTo>
                        <a:pt x="369" y="247"/>
                      </a:lnTo>
                      <a:lnTo>
                        <a:pt x="393" y="269"/>
                      </a:lnTo>
                      <a:lnTo>
                        <a:pt x="393" y="281"/>
                      </a:lnTo>
                      <a:lnTo>
                        <a:pt x="388" y="289"/>
                      </a:lnTo>
                      <a:lnTo>
                        <a:pt x="363" y="291"/>
                      </a:lnTo>
                      <a:lnTo>
                        <a:pt x="349" y="283"/>
                      </a:lnTo>
                      <a:lnTo>
                        <a:pt x="330" y="265"/>
                      </a:lnTo>
                      <a:lnTo>
                        <a:pt x="324" y="265"/>
                      </a:lnTo>
                      <a:lnTo>
                        <a:pt x="313" y="251"/>
                      </a:lnTo>
                      <a:lnTo>
                        <a:pt x="302" y="232"/>
                      </a:lnTo>
                      <a:lnTo>
                        <a:pt x="293" y="222"/>
                      </a:lnTo>
                      <a:lnTo>
                        <a:pt x="269" y="212"/>
                      </a:lnTo>
                      <a:lnTo>
                        <a:pt x="247" y="202"/>
                      </a:lnTo>
                      <a:lnTo>
                        <a:pt x="217" y="182"/>
                      </a:lnTo>
                      <a:lnTo>
                        <a:pt x="207" y="164"/>
                      </a:lnTo>
                      <a:lnTo>
                        <a:pt x="208" y="152"/>
                      </a:lnTo>
                      <a:lnTo>
                        <a:pt x="220" y="145"/>
                      </a:lnTo>
                      <a:lnTo>
                        <a:pt x="210" y="127"/>
                      </a:lnTo>
                      <a:lnTo>
                        <a:pt x="198" y="139"/>
                      </a:lnTo>
                      <a:lnTo>
                        <a:pt x="180" y="117"/>
                      </a:lnTo>
                      <a:lnTo>
                        <a:pt x="176" y="127"/>
                      </a:lnTo>
                      <a:lnTo>
                        <a:pt x="161" y="127"/>
                      </a:lnTo>
                      <a:lnTo>
                        <a:pt x="156" y="121"/>
                      </a:lnTo>
                      <a:lnTo>
                        <a:pt x="156" y="107"/>
                      </a:lnTo>
                      <a:lnTo>
                        <a:pt x="149" y="97"/>
                      </a:lnTo>
                      <a:lnTo>
                        <a:pt x="137" y="99"/>
                      </a:lnTo>
                      <a:lnTo>
                        <a:pt x="124" y="77"/>
                      </a:lnTo>
                      <a:lnTo>
                        <a:pt x="115" y="73"/>
                      </a:lnTo>
                      <a:lnTo>
                        <a:pt x="93" y="65"/>
                      </a:lnTo>
                      <a:lnTo>
                        <a:pt x="61" y="69"/>
                      </a:lnTo>
                      <a:lnTo>
                        <a:pt x="27" y="65"/>
                      </a:lnTo>
                      <a:lnTo>
                        <a:pt x="0" y="57"/>
                      </a:lnTo>
                    </a:path>
                  </a:pathLst>
                </a:custGeom>
                <a:solidFill>
                  <a:srgbClr val="dd9bab">
                    <a:alpha val="50000"/>
                  </a:srgbClr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057400" y="4243320"/>
                  <a:ext cx="1225440" cy="2003400"/>
                </a:xfrm>
                <a:custGeom>
                  <a:avLst/>
                  <a:gdLst/>
                  <a:ahLst/>
                  <a:rect l="l" t="t" r="r" b="b"/>
                  <a:pathLst>
                    <a:path w="772" h="1262">
                      <a:moveTo>
                        <a:pt x="60" y="56"/>
                      </a:moveTo>
                      <a:lnTo>
                        <a:pt x="67" y="41"/>
                      </a:lnTo>
                      <a:lnTo>
                        <a:pt x="86" y="21"/>
                      </a:lnTo>
                      <a:lnTo>
                        <a:pt x="116" y="6"/>
                      </a:lnTo>
                      <a:lnTo>
                        <a:pt x="131" y="0"/>
                      </a:lnTo>
                      <a:lnTo>
                        <a:pt x="143" y="2"/>
                      </a:lnTo>
                      <a:lnTo>
                        <a:pt x="141" y="12"/>
                      </a:lnTo>
                      <a:lnTo>
                        <a:pt x="124" y="23"/>
                      </a:lnTo>
                      <a:lnTo>
                        <a:pt x="119" y="43"/>
                      </a:lnTo>
                      <a:lnTo>
                        <a:pt x="124" y="58"/>
                      </a:lnTo>
                      <a:lnTo>
                        <a:pt x="136" y="58"/>
                      </a:lnTo>
                      <a:lnTo>
                        <a:pt x="143" y="41"/>
                      </a:lnTo>
                      <a:lnTo>
                        <a:pt x="148" y="23"/>
                      </a:lnTo>
                      <a:lnTo>
                        <a:pt x="160" y="27"/>
                      </a:lnTo>
                      <a:lnTo>
                        <a:pt x="169" y="37"/>
                      </a:lnTo>
                      <a:lnTo>
                        <a:pt x="186" y="35"/>
                      </a:lnTo>
                      <a:lnTo>
                        <a:pt x="200" y="43"/>
                      </a:lnTo>
                      <a:lnTo>
                        <a:pt x="205" y="52"/>
                      </a:lnTo>
                      <a:lnTo>
                        <a:pt x="231" y="50"/>
                      </a:lnTo>
                      <a:lnTo>
                        <a:pt x="288" y="43"/>
                      </a:lnTo>
                      <a:lnTo>
                        <a:pt x="310" y="78"/>
                      </a:lnTo>
                      <a:lnTo>
                        <a:pt x="343" y="91"/>
                      </a:lnTo>
                      <a:lnTo>
                        <a:pt x="342" y="105"/>
                      </a:lnTo>
                      <a:lnTo>
                        <a:pt x="360" y="99"/>
                      </a:lnTo>
                      <a:lnTo>
                        <a:pt x="374" y="99"/>
                      </a:lnTo>
                      <a:lnTo>
                        <a:pt x="393" y="111"/>
                      </a:lnTo>
                      <a:lnTo>
                        <a:pt x="419" y="111"/>
                      </a:lnTo>
                      <a:lnTo>
                        <a:pt x="442" y="111"/>
                      </a:lnTo>
                      <a:lnTo>
                        <a:pt x="473" y="138"/>
                      </a:lnTo>
                      <a:lnTo>
                        <a:pt x="511" y="173"/>
                      </a:lnTo>
                      <a:lnTo>
                        <a:pt x="528" y="215"/>
                      </a:lnTo>
                      <a:lnTo>
                        <a:pt x="512" y="241"/>
                      </a:lnTo>
                      <a:lnTo>
                        <a:pt x="559" y="248"/>
                      </a:lnTo>
                      <a:lnTo>
                        <a:pt x="630" y="266"/>
                      </a:lnTo>
                      <a:lnTo>
                        <a:pt x="704" y="279"/>
                      </a:lnTo>
                      <a:lnTo>
                        <a:pt x="749" y="314"/>
                      </a:lnTo>
                      <a:lnTo>
                        <a:pt x="771" y="345"/>
                      </a:lnTo>
                      <a:lnTo>
                        <a:pt x="771" y="382"/>
                      </a:lnTo>
                      <a:lnTo>
                        <a:pt x="752" y="417"/>
                      </a:lnTo>
                      <a:lnTo>
                        <a:pt x="733" y="435"/>
                      </a:lnTo>
                      <a:lnTo>
                        <a:pt x="718" y="452"/>
                      </a:lnTo>
                      <a:lnTo>
                        <a:pt x="704" y="479"/>
                      </a:lnTo>
                      <a:lnTo>
                        <a:pt x="702" y="499"/>
                      </a:lnTo>
                      <a:lnTo>
                        <a:pt x="704" y="526"/>
                      </a:lnTo>
                      <a:lnTo>
                        <a:pt x="695" y="559"/>
                      </a:lnTo>
                      <a:lnTo>
                        <a:pt x="686" y="563"/>
                      </a:lnTo>
                      <a:lnTo>
                        <a:pt x="680" y="582"/>
                      </a:lnTo>
                      <a:lnTo>
                        <a:pt x="666" y="594"/>
                      </a:lnTo>
                      <a:lnTo>
                        <a:pt x="664" y="609"/>
                      </a:lnTo>
                      <a:lnTo>
                        <a:pt x="649" y="623"/>
                      </a:lnTo>
                      <a:lnTo>
                        <a:pt x="623" y="650"/>
                      </a:lnTo>
                      <a:lnTo>
                        <a:pt x="599" y="662"/>
                      </a:lnTo>
                      <a:lnTo>
                        <a:pt x="585" y="658"/>
                      </a:lnTo>
                      <a:lnTo>
                        <a:pt x="555" y="677"/>
                      </a:lnTo>
                      <a:lnTo>
                        <a:pt x="530" y="704"/>
                      </a:lnTo>
                      <a:lnTo>
                        <a:pt x="519" y="720"/>
                      </a:lnTo>
                      <a:lnTo>
                        <a:pt x="519" y="735"/>
                      </a:lnTo>
                      <a:lnTo>
                        <a:pt x="530" y="753"/>
                      </a:lnTo>
                      <a:lnTo>
                        <a:pt x="512" y="774"/>
                      </a:lnTo>
                      <a:lnTo>
                        <a:pt x="512" y="786"/>
                      </a:lnTo>
                      <a:lnTo>
                        <a:pt x="492" y="807"/>
                      </a:lnTo>
                      <a:lnTo>
                        <a:pt x="478" y="815"/>
                      </a:lnTo>
                      <a:lnTo>
                        <a:pt x="462" y="834"/>
                      </a:lnTo>
                      <a:lnTo>
                        <a:pt x="457" y="854"/>
                      </a:lnTo>
                      <a:lnTo>
                        <a:pt x="436" y="877"/>
                      </a:lnTo>
                      <a:lnTo>
                        <a:pt x="431" y="873"/>
                      </a:lnTo>
                      <a:lnTo>
                        <a:pt x="416" y="873"/>
                      </a:lnTo>
                      <a:lnTo>
                        <a:pt x="395" y="881"/>
                      </a:lnTo>
                      <a:lnTo>
                        <a:pt x="411" y="892"/>
                      </a:lnTo>
                      <a:lnTo>
                        <a:pt x="411" y="912"/>
                      </a:lnTo>
                      <a:lnTo>
                        <a:pt x="411" y="927"/>
                      </a:lnTo>
                      <a:lnTo>
                        <a:pt x="400" y="939"/>
                      </a:lnTo>
                      <a:lnTo>
                        <a:pt x="374" y="945"/>
                      </a:lnTo>
                      <a:lnTo>
                        <a:pt x="355" y="951"/>
                      </a:lnTo>
                      <a:lnTo>
                        <a:pt x="345" y="960"/>
                      </a:lnTo>
                      <a:lnTo>
                        <a:pt x="345" y="982"/>
                      </a:lnTo>
                      <a:lnTo>
                        <a:pt x="324" y="987"/>
                      </a:lnTo>
                      <a:lnTo>
                        <a:pt x="305" y="982"/>
                      </a:lnTo>
                      <a:lnTo>
                        <a:pt x="300" y="993"/>
                      </a:lnTo>
                      <a:lnTo>
                        <a:pt x="310" y="1003"/>
                      </a:lnTo>
                      <a:lnTo>
                        <a:pt x="305" y="1030"/>
                      </a:lnTo>
                      <a:lnTo>
                        <a:pt x="295" y="1057"/>
                      </a:lnTo>
                      <a:lnTo>
                        <a:pt x="271" y="1057"/>
                      </a:lnTo>
                      <a:lnTo>
                        <a:pt x="262" y="1069"/>
                      </a:lnTo>
                      <a:lnTo>
                        <a:pt x="264" y="1092"/>
                      </a:lnTo>
                      <a:lnTo>
                        <a:pt x="281" y="1092"/>
                      </a:lnTo>
                      <a:lnTo>
                        <a:pt x="288" y="1102"/>
                      </a:lnTo>
                      <a:lnTo>
                        <a:pt x="283" y="1123"/>
                      </a:lnTo>
                      <a:lnTo>
                        <a:pt x="269" y="1123"/>
                      </a:lnTo>
                      <a:lnTo>
                        <a:pt x="250" y="1133"/>
                      </a:lnTo>
                      <a:lnTo>
                        <a:pt x="243" y="1147"/>
                      </a:lnTo>
                      <a:lnTo>
                        <a:pt x="243" y="1174"/>
                      </a:lnTo>
                      <a:lnTo>
                        <a:pt x="229" y="1187"/>
                      </a:lnTo>
                      <a:lnTo>
                        <a:pt x="274" y="1228"/>
                      </a:lnTo>
                      <a:lnTo>
                        <a:pt x="288" y="1249"/>
                      </a:lnTo>
                      <a:lnTo>
                        <a:pt x="281" y="1261"/>
                      </a:lnTo>
                      <a:lnTo>
                        <a:pt x="262" y="1251"/>
                      </a:lnTo>
                      <a:lnTo>
                        <a:pt x="243" y="1236"/>
                      </a:lnTo>
                      <a:lnTo>
                        <a:pt x="219" y="1224"/>
                      </a:lnTo>
                      <a:lnTo>
                        <a:pt x="197" y="1201"/>
                      </a:lnTo>
                      <a:lnTo>
                        <a:pt x="179" y="1181"/>
                      </a:lnTo>
                      <a:lnTo>
                        <a:pt x="179" y="1158"/>
                      </a:lnTo>
                      <a:lnTo>
                        <a:pt x="181" y="1141"/>
                      </a:lnTo>
                      <a:lnTo>
                        <a:pt x="179" y="1007"/>
                      </a:lnTo>
                      <a:lnTo>
                        <a:pt x="174" y="982"/>
                      </a:lnTo>
                      <a:lnTo>
                        <a:pt x="160" y="956"/>
                      </a:lnTo>
                      <a:lnTo>
                        <a:pt x="160" y="933"/>
                      </a:lnTo>
                      <a:lnTo>
                        <a:pt x="169" y="906"/>
                      </a:lnTo>
                      <a:lnTo>
                        <a:pt x="179" y="873"/>
                      </a:lnTo>
                      <a:lnTo>
                        <a:pt x="174" y="838"/>
                      </a:lnTo>
                      <a:lnTo>
                        <a:pt x="172" y="828"/>
                      </a:lnTo>
                      <a:lnTo>
                        <a:pt x="172" y="809"/>
                      </a:lnTo>
                      <a:lnTo>
                        <a:pt x="178" y="801"/>
                      </a:lnTo>
                      <a:lnTo>
                        <a:pt x="179" y="762"/>
                      </a:lnTo>
                      <a:lnTo>
                        <a:pt x="178" y="745"/>
                      </a:lnTo>
                      <a:lnTo>
                        <a:pt x="185" y="698"/>
                      </a:lnTo>
                      <a:lnTo>
                        <a:pt x="178" y="658"/>
                      </a:lnTo>
                      <a:lnTo>
                        <a:pt x="181" y="642"/>
                      </a:lnTo>
                      <a:lnTo>
                        <a:pt x="191" y="599"/>
                      </a:lnTo>
                      <a:lnTo>
                        <a:pt x="181" y="574"/>
                      </a:lnTo>
                      <a:lnTo>
                        <a:pt x="162" y="555"/>
                      </a:lnTo>
                      <a:lnTo>
                        <a:pt x="160" y="537"/>
                      </a:lnTo>
                      <a:lnTo>
                        <a:pt x="136" y="516"/>
                      </a:lnTo>
                      <a:lnTo>
                        <a:pt x="116" y="506"/>
                      </a:lnTo>
                      <a:lnTo>
                        <a:pt x="85" y="499"/>
                      </a:lnTo>
                      <a:lnTo>
                        <a:pt x="67" y="468"/>
                      </a:lnTo>
                      <a:lnTo>
                        <a:pt x="48" y="444"/>
                      </a:lnTo>
                      <a:lnTo>
                        <a:pt x="45" y="417"/>
                      </a:lnTo>
                      <a:lnTo>
                        <a:pt x="43" y="400"/>
                      </a:lnTo>
                      <a:lnTo>
                        <a:pt x="38" y="382"/>
                      </a:lnTo>
                      <a:lnTo>
                        <a:pt x="26" y="367"/>
                      </a:lnTo>
                      <a:lnTo>
                        <a:pt x="12" y="359"/>
                      </a:lnTo>
                      <a:lnTo>
                        <a:pt x="0" y="345"/>
                      </a:lnTo>
                      <a:lnTo>
                        <a:pt x="12" y="326"/>
                      </a:lnTo>
                      <a:lnTo>
                        <a:pt x="12" y="293"/>
                      </a:lnTo>
                      <a:lnTo>
                        <a:pt x="7" y="274"/>
                      </a:lnTo>
                      <a:lnTo>
                        <a:pt x="0" y="254"/>
                      </a:lnTo>
                      <a:lnTo>
                        <a:pt x="7" y="229"/>
                      </a:lnTo>
                      <a:lnTo>
                        <a:pt x="36" y="161"/>
                      </a:lnTo>
                      <a:lnTo>
                        <a:pt x="38" y="134"/>
                      </a:lnTo>
                      <a:lnTo>
                        <a:pt x="55" y="105"/>
                      </a:lnTo>
                      <a:lnTo>
                        <a:pt x="55" y="85"/>
                      </a:lnTo>
                      <a:lnTo>
                        <a:pt x="60" y="56"/>
                      </a:lnTo>
                    </a:path>
                  </a:pathLst>
                </a:custGeom>
                <a:solidFill>
                  <a:srgbClr val="dd9bab">
                    <a:alpha val="50000"/>
                  </a:srgbClr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" name=""/>
            <p:cNvGrpSpPr/>
            <p:nvPr/>
          </p:nvGrpSpPr>
          <p:grpSpPr>
            <a:xfrm>
              <a:off x="8581320" y="5427720"/>
              <a:ext cx="330480" cy="370800"/>
              <a:chOff x="8581320" y="5427720"/>
              <a:chExt cx="330480" cy="370800"/>
            </a:xfrm>
          </p:grpSpPr>
          <p:sp>
            <p:nvSpPr>
              <p:cNvPr id="114" name=""/>
              <p:cNvSpPr/>
              <p:nvPr/>
            </p:nvSpPr>
            <p:spPr>
              <a:xfrm rot="20253000">
                <a:off x="8763120" y="5445360"/>
                <a:ext cx="123840" cy="154080"/>
              </a:xfrm>
              <a:custGeom>
                <a:avLst/>
                <a:gdLst/>
                <a:ahLst/>
                <a:rect l="l" t="t" r="r" b="b"/>
                <a:pathLst>
                  <a:path w="78" h="97">
                    <a:moveTo>
                      <a:pt x="44" y="38"/>
                    </a:moveTo>
                    <a:lnTo>
                      <a:pt x="44" y="32"/>
                    </a:lnTo>
                    <a:lnTo>
                      <a:pt x="38" y="32"/>
                    </a:lnTo>
                    <a:lnTo>
                      <a:pt x="44" y="32"/>
                    </a:lnTo>
                    <a:lnTo>
                      <a:pt x="38" y="32"/>
                    </a:lnTo>
                    <a:lnTo>
                      <a:pt x="44" y="32"/>
                    </a:lnTo>
                    <a:lnTo>
                      <a:pt x="44" y="25"/>
                    </a:lnTo>
                    <a:lnTo>
                      <a:pt x="44" y="19"/>
                    </a:lnTo>
                    <a:lnTo>
                      <a:pt x="52" y="19"/>
                    </a:lnTo>
                    <a:lnTo>
                      <a:pt x="52" y="13"/>
                    </a:lnTo>
                    <a:lnTo>
                      <a:pt x="44" y="13"/>
                    </a:lnTo>
                    <a:lnTo>
                      <a:pt x="52" y="13"/>
                    </a:lnTo>
                    <a:lnTo>
                      <a:pt x="44" y="13"/>
                    </a:lnTo>
                    <a:lnTo>
                      <a:pt x="44" y="6"/>
                    </a:lnTo>
                    <a:lnTo>
                      <a:pt x="38" y="6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38" y="13"/>
                    </a:lnTo>
                    <a:lnTo>
                      <a:pt x="38" y="19"/>
                    </a:lnTo>
                    <a:lnTo>
                      <a:pt x="38" y="25"/>
                    </a:lnTo>
                    <a:lnTo>
                      <a:pt x="38" y="19"/>
                    </a:lnTo>
                    <a:lnTo>
                      <a:pt x="38" y="25"/>
                    </a:lnTo>
                    <a:lnTo>
                      <a:pt x="38" y="32"/>
                    </a:lnTo>
                    <a:lnTo>
                      <a:pt x="38" y="38"/>
                    </a:lnTo>
                    <a:lnTo>
                      <a:pt x="33" y="38"/>
                    </a:lnTo>
                    <a:lnTo>
                      <a:pt x="33" y="46"/>
                    </a:lnTo>
                    <a:lnTo>
                      <a:pt x="33" y="52"/>
                    </a:lnTo>
                    <a:lnTo>
                      <a:pt x="25" y="52"/>
                    </a:lnTo>
                    <a:lnTo>
                      <a:pt x="25" y="57"/>
                    </a:lnTo>
                    <a:lnTo>
                      <a:pt x="19" y="57"/>
                    </a:lnTo>
                    <a:lnTo>
                      <a:pt x="14" y="65"/>
                    </a:lnTo>
                    <a:lnTo>
                      <a:pt x="6" y="65"/>
                    </a:lnTo>
                    <a:lnTo>
                      <a:pt x="6" y="71"/>
                    </a:lnTo>
                    <a:lnTo>
                      <a:pt x="14" y="71"/>
                    </a:lnTo>
                    <a:lnTo>
                      <a:pt x="14" y="77"/>
                    </a:lnTo>
                    <a:lnTo>
                      <a:pt x="19" y="77"/>
                    </a:lnTo>
                    <a:lnTo>
                      <a:pt x="14" y="77"/>
                    </a:lnTo>
                    <a:lnTo>
                      <a:pt x="14" y="84"/>
                    </a:lnTo>
                    <a:lnTo>
                      <a:pt x="6" y="84"/>
                    </a:lnTo>
                    <a:lnTo>
                      <a:pt x="6" y="90"/>
                    </a:lnTo>
                    <a:lnTo>
                      <a:pt x="0" y="90"/>
                    </a:lnTo>
                    <a:lnTo>
                      <a:pt x="0" y="96"/>
                    </a:lnTo>
                    <a:lnTo>
                      <a:pt x="6" y="96"/>
                    </a:lnTo>
                    <a:lnTo>
                      <a:pt x="6" y="90"/>
                    </a:lnTo>
                    <a:lnTo>
                      <a:pt x="14" y="90"/>
                    </a:lnTo>
                    <a:lnTo>
                      <a:pt x="25" y="84"/>
                    </a:lnTo>
                    <a:lnTo>
                      <a:pt x="33" y="77"/>
                    </a:lnTo>
                    <a:lnTo>
                      <a:pt x="38" y="71"/>
                    </a:lnTo>
                    <a:lnTo>
                      <a:pt x="44" y="71"/>
                    </a:lnTo>
                    <a:lnTo>
                      <a:pt x="44" y="65"/>
                    </a:lnTo>
                    <a:lnTo>
                      <a:pt x="52" y="65"/>
                    </a:lnTo>
                    <a:lnTo>
                      <a:pt x="58" y="65"/>
                    </a:lnTo>
                    <a:lnTo>
                      <a:pt x="58" y="57"/>
                    </a:lnTo>
                    <a:lnTo>
                      <a:pt x="63" y="57"/>
                    </a:lnTo>
                    <a:lnTo>
                      <a:pt x="71" y="52"/>
                    </a:lnTo>
                    <a:lnTo>
                      <a:pt x="71" y="46"/>
                    </a:lnTo>
                    <a:lnTo>
                      <a:pt x="77" y="46"/>
                    </a:lnTo>
                    <a:lnTo>
                      <a:pt x="71" y="46"/>
                    </a:lnTo>
                    <a:lnTo>
                      <a:pt x="63" y="46"/>
                    </a:lnTo>
                    <a:lnTo>
                      <a:pt x="58" y="52"/>
                    </a:lnTo>
                    <a:lnTo>
                      <a:pt x="52" y="46"/>
                    </a:lnTo>
                    <a:lnTo>
                      <a:pt x="52" y="38"/>
                    </a:lnTo>
                    <a:lnTo>
                      <a:pt x="52" y="32"/>
                    </a:lnTo>
                    <a:lnTo>
                      <a:pt x="44" y="38"/>
                    </a:lnTo>
                  </a:path>
                </a:pathLst>
              </a:custGeom>
              <a:solidFill>
                <a:srgbClr val="dd9bab">
                  <a:alpha val="50000"/>
                </a:srgbClr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20253000">
                <a:off x="8596800" y="5638320"/>
                <a:ext cx="214200" cy="123840"/>
              </a:xfrm>
              <a:custGeom>
                <a:avLst/>
                <a:gdLst/>
                <a:ahLst/>
                <a:rect l="l" t="t" r="r" b="b"/>
                <a:pathLst>
                  <a:path w="135" h="78">
                    <a:moveTo>
                      <a:pt x="85" y="38"/>
                    </a:moveTo>
                    <a:lnTo>
                      <a:pt x="90" y="38"/>
                    </a:lnTo>
                    <a:lnTo>
                      <a:pt x="96" y="38"/>
                    </a:lnTo>
                    <a:lnTo>
                      <a:pt x="96" y="31"/>
                    </a:lnTo>
                    <a:lnTo>
                      <a:pt x="104" y="31"/>
                    </a:lnTo>
                    <a:lnTo>
                      <a:pt x="110" y="31"/>
                    </a:lnTo>
                    <a:lnTo>
                      <a:pt x="115" y="25"/>
                    </a:lnTo>
                    <a:lnTo>
                      <a:pt x="123" y="19"/>
                    </a:lnTo>
                    <a:lnTo>
                      <a:pt x="129" y="19"/>
                    </a:lnTo>
                    <a:lnTo>
                      <a:pt x="129" y="12"/>
                    </a:lnTo>
                    <a:lnTo>
                      <a:pt x="134" y="6"/>
                    </a:lnTo>
                    <a:lnTo>
                      <a:pt x="129" y="6"/>
                    </a:lnTo>
                    <a:lnTo>
                      <a:pt x="123" y="12"/>
                    </a:lnTo>
                    <a:lnTo>
                      <a:pt x="123" y="6"/>
                    </a:lnTo>
                    <a:lnTo>
                      <a:pt x="123" y="0"/>
                    </a:lnTo>
                    <a:lnTo>
                      <a:pt x="115" y="6"/>
                    </a:lnTo>
                    <a:lnTo>
                      <a:pt x="110" y="12"/>
                    </a:lnTo>
                    <a:lnTo>
                      <a:pt x="104" y="12"/>
                    </a:lnTo>
                    <a:lnTo>
                      <a:pt x="104" y="19"/>
                    </a:lnTo>
                    <a:lnTo>
                      <a:pt x="96" y="12"/>
                    </a:lnTo>
                    <a:lnTo>
                      <a:pt x="96" y="19"/>
                    </a:lnTo>
                    <a:lnTo>
                      <a:pt x="90" y="25"/>
                    </a:lnTo>
                    <a:lnTo>
                      <a:pt x="85" y="25"/>
                    </a:lnTo>
                    <a:lnTo>
                      <a:pt x="77" y="31"/>
                    </a:lnTo>
                    <a:lnTo>
                      <a:pt x="71" y="31"/>
                    </a:lnTo>
                    <a:lnTo>
                      <a:pt x="71" y="38"/>
                    </a:lnTo>
                    <a:lnTo>
                      <a:pt x="66" y="38"/>
                    </a:lnTo>
                    <a:lnTo>
                      <a:pt x="58" y="38"/>
                    </a:lnTo>
                    <a:lnTo>
                      <a:pt x="52" y="44"/>
                    </a:lnTo>
                    <a:lnTo>
                      <a:pt x="44" y="44"/>
                    </a:lnTo>
                    <a:lnTo>
                      <a:pt x="39" y="50"/>
                    </a:lnTo>
                    <a:lnTo>
                      <a:pt x="33" y="50"/>
                    </a:lnTo>
                    <a:lnTo>
                      <a:pt x="25" y="58"/>
                    </a:lnTo>
                    <a:lnTo>
                      <a:pt x="20" y="58"/>
                    </a:lnTo>
                    <a:lnTo>
                      <a:pt x="20" y="63"/>
                    </a:lnTo>
                    <a:lnTo>
                      <a:pt x="14" y="63"/>
                    </a:lnTo>
                    <a:lnTo>
                      <a:pt x="6" y="63"/>
                    </a:lnTo>
                    <a:lnTo>
                      <a:pt x="6" y="71"/>
                    </a:lnTo>
                    <a:lnTo>
                      <a:pt x="0" y="71"/>
                    </a:lnTo>
                    <a:lnTo>
                      <a:pt x="6" y="71"/>
                    </a:lnTo>
                    <a:lnTo>
                      <a:pt x="14" y="71"/>
                    </a:lnTo>
                    <a:lnTo>
                      <a:pt x="20" y="77"/>
                    </a:lnTo>
                    <a:lnTo>
                      <a:pt x="25" y="77"/>
                    </a:lnTo>
                    <a:lnTo>
                      <a:pt x="33" y="77"/>
                    </a:lnTo>
                    <a:lnTo>
                      <a:pt x="39" y="71"/>
                    </a:lnTo>
                    <a:lnTo>
                      <a:pt x="44" y="71"/>
                    </a:lnTo>
                    <a:lnTo>
                      <a:pt x="52" y="63"/>
                    </a:lnTo>
                    <a:lnTo>
                      <a:pt x="58" y="58"/>
                    </a:lnTo>
                    <a:lnTo>
                      <a:pt x="66" y="58"/>
                    </a:lnTo>
                    <a:lnTo>
                      <a:pt x="58" y="58"/>
                    </a:lnTo>
                    <a:lnTo>
                      <a:pt x="58" y="50"/>
                    </a:lnTo>
                    <a:lnTo>
                      <a:pt x="66" y="50"/>
                    </a:lnTo>
                    <a:lnTo>
                      <a:pt x="66" y="58"/>
                    </a:lnTo>
                    <a:lnTo>
                      <a:pt x="66" y="50"/>
                    </a:lnTo>
                    <a:lnTo>
                      <a:pt x="71" y="50"/>
                    </a:lnTo>
                    <a:lnTo>
                      <a:pt x="71" y="44"/>
                    </a:lnTo>
                    <a:lnTo>
                      <a:pt x="77" y="44"/>
                    </a:lnTo>
                    <a:lnTo>
                      <a:pt x="85" y="44"/>
                    </a:lnTo>
                    <a:lnTo>
                      <a:pt x="85" y="38"/>
                    </a:lnTo>
                  </a:path>
                </a:pathLst>
              </a:custGeom>
              <a:solidFill>
                <a:srgbClr val="dd9bab">
                  <a:alpha val="50000"/>
                </a:srgbClr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"/>
          <p:cNvSpPr/>
          <p:nvPr/>
        </p:nvSpPr>
        <p:spPr>
          <a:xfrm>
            <a:off x="395280" y="1700280"/>
            <a:ext cx="8520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ОПОРНЫЕ ПУНКТЫ ИИТО В 34 СТРАНАХ-ЧЛЕНАХ ЮНЕСК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5902200"/>
            <a:ext cx="86407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АРТНЕРЫ ИИТО – БОЛЕЕ 60 СТРАН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И МЕЖДУНАРОДНЫХ ОРГАНИЗ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695600" y="2911320"/>
            <a:ext cx="6781320" cy="2666880"/>
            <a:chOff x="1695600" y="2911320"/>
            <a:chExt cx="6781320" cy="2666880"/>
          </a:xfrm>
        </p:grpSpPr>
        <p:sp>
          <p:nvSpPr>
            <p:cNvPr id="119" name=""/>
            <p:cNvSpPr/>
            <p:nvPr/>
          </p:nvSpPr>
          <p:spPr>
            <a:xfrm flipH="1">
              <a:off x="1999800" y="2911320"/>
              <a:ext cx="32763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457000" y="2911320"/>
              <a:ext cx="2819160" cy="190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76880" y="2911320"/>
              <a:ext cx="190440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76880" y="2911320"/>
              <a:ext cx="228564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76880" y="2911320"/>
              <a:ext cx="2361600" cy="121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76880" y="2911320"/>
              <a:ext cx="22824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276880" y="2911320"/>
              <a:ext cx="0" cy="2057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305080" y="2911320"/>
              <a:ext cx="2971440" cy="152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457000" y="2911320"/>
              <a:ext cx="2819160" cy="251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4133880" y="2911320"/>
              <a:ext cx="1142640" cy="137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1695600" y="2911320"/>
              <a:ext cx="3581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76880" y="2911320"/>
              <a:ext cx="3200040" cy="251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743000" y="2911320"/>
              <a:ext cx="533160" cy="220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2609640" y="2911320"/>
              <a:ext cx="2666880" cy="2666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2076120" y="2911320"/>
              <a:ext cx="3200040" cy="18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4362120" y="2911320"/>
              <a:ext cx="914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591080" y="2911320"/>
              <a:ext cx="68544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819320" y="2911320"/>
              <a:ext cx="45684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4743000" y="2911320"/>
              <a:ext cx="53316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466640" y="2606760"/>
            <a:ext cx="7296480" cy="2999880"/>
            <a:chOff x="1466640" y="2606760"/>
            <a:chExt cx="7296480" cy="2999880"/>
          </a:xfrm>
        </p:grpSpPr>
        <p:sp>
          <p:nvSpPr>
            <p:cNvPr id="139" name=""/>
            <p:cNvSpPr/>
            <p:nvPr/>
          </p:nvSpPr>
          <p:spPr>
            <a:xfrm flipH="1">
              <a:off x="4667040" y="2911320"/>
              <a:ext cx="609480" cy="83772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667040" y="2911320"/>
              <a:ext cx="609480" cy="30456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4971600" y="2911320"/>
              <a:ext cx="304920" cy="7596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4896000" y="2911320"/>
              <a:ext cx="380880" cy="251424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896000" y="2911320"/>
              <a:ext cx="380880" cy="22824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4743360" y="2834640"/>
              <a:ext cx="533520" cy="7596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4971600" y="2606760"/>
              <a:ext cx="304920" cy="30456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200560" y="2911320"/>
              <a:ext cx="76320" cy="159984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4667040" y="2606760"/>
              <a:ext cx="609480" cy="30456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76880" y="2911320"/>
              <a:ext cx="3486240" cy="269532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76880" y="2911320"/>
              <a:ext cx="380880" cy="45684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76880" y="2911320"/>
              <a:ext cx="762120" cy="38052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76880" y="2911320"/>
              <a:ext cx="609480" cy="83772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76880" y="2911320"/>
              <a:ext cx="533520" cy="53316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76880" y="2911320"/>
              <a:ext cx="0" cy="60912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971600" y="2911320"/>
              <a:ext cx="304920" cy="38052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76880" y="2911320"/>
              <a:ext cx="2209680" cy="190476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466640" y="2911320"/>
              <a:ext cx="3809880" cy="106632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4590720" y="2911320"/>
              <a:ext cx="685800" cy="144756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76880" y="2911320"/>
              <a:ext cx="2286000" cy="167616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4896000" y="2911320"/>
              <a:ext cx="380880" cy="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590720" y="2911320"/>
              <a:ext cx="685800" cy="175212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76880" y="2911320"/>
              <a:ext cx="1219320" cy="129492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362480" y="2911320"/>
              <a:ext cx="914400" cy="45684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4743360" y="2911320"/>
              <a:ext cx="533520" cy="22824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5047920" y="2911320"/>
              <a:ext cx="228600" cy="22824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76880" y="2911320"/>
              <a:ext cx="228600" cy="456840"/>
            </a:xfrm>
            <a:prstGeom prst="line">
              <a:avLst/>
            </a:prstGeom>
            <a:ln w="1260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914400" y="533520"/>
            <a:ext cx="8305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c1a8"/>
                </a:solidFill>
                <a:latin typeface="Arial"/>
              </a:rPr>
              <a:t>Международное сотруднич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400"/>
                            </p:stCondLst>
                            <p:childTnLst>
                              <p:par>
                                <p:cTn id="1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9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3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900"/>
                            </p:stCondLst>
                            <p:childTnLst>
                              <p:par>
                                <p:cTn id="1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0975"/>
            </a:gs>
            <a:gs pos="100000">
              <a:srgbClr val="6019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55640" y="1268280"/>
            <a:ext cx="868680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азовый кур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азовая программа по ИКТ для подготовки уч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пециализированные учебные кур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КТ в начальном образ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ультимедиа в образ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КТ в дистанционном образ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нтернет в образ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КТ в образовании лиц с особыми потребност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КТ в образовательных технологиях изучения язы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лектронные библиотеки для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ормирование информационной среды для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мплекты вспомогательных учебных материа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ормирование политики интегрирования ИКТ в 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ереподготовка школьных учителей по применению ИКТ в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образ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уководство по подготовке кадров для дистанционного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образован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533520"/>
            <a:ext cx="87645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c1a8"/>
                </a:solidFill>
                <a:latin typeface="Arial"/>
              </a:rPr>
              <a:t>Образовательная программа ИИТО</a:t>
            </a:r>
            <a:endParaRPr b="0" lang="en-US" sz="3600" spc="-1" strike="noStrike">
              <a:solidFill>
                <a:srgbClr val="fec1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3T09:22:20Z</dcterms:created>
  <dc:creator>Loginova</dc:creator>
  <dc:description/>
  <dc:language>en-US</dc:language>
  <cp:lastModifiedBy>Татьяна Логинова</cp:lastModifiedBy>
  <cp:lastPrinted>2001-10-12T07:36:37Z</cp:lastPrinted>
  <dcterms:modified xsi:type="dcterms:W3CDTF">2002-10-10T06:22:52Z</dcterms:modified>
  <cp:revision>147</cp:revision>
  <dc:subject/>
  <dc:title>Role of Distance Learning in the Information Society</dc:title>
</cp:coreProperties>
</file>